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nstantia"/>
            </a:endParaRPr>
          </a:p>
        </p:txBody>
      </p:sp>
      <p:sp>
        <p:nvSpPr>
          <p:cNvPr id="1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0"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3"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4"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29787-80F2-4A2F-BEA3-E0135F302FA0}"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2"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4B818-270D-4764-9694-F4DCBC6BF505}"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A3427-F59C-4CCA-B3EA-5D34938622BB}"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8"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8FFCF-9C53-4F14-933C-794E1D35F866}"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0EAA3D-9132-4028-8AE6-B6F34187A8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79BD80-D567-447D-B5C6-E02C2D57DB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8C93B0-020A-4C0B-A6B8-608816A3F5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466A3B-96CF-49A0-9C86-2C1C41892C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422570-204F-49D3-8D2F-01A98A82A9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A4ABA1-CBDB-42CD-9F9D-F26C7EBA36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89A474-0040-434D-9BA1-3CFA93953B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45D907-DCB6-4BB7-8AE2-18DB0E1A75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7AA699-3482-48A8-940B-3AC8151A40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4864F7-1CA6-4360-A321-1682F54F15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E50C32-CC30-4646-8D95-DF635F5ECD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7D2F08-B605-4BC2-A644-EE21A78250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64FCC6-F3D6-4672-A286-CB4930ED74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FF0A5B-1023-4A45-8173-89F3A46AD0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9E8CEE-E21F-4DAB-802A-ED57979A80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BA6C34-44AA-455E-AD85-5F76919C54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133C64-E941-4E66-A5B5-E54D43A644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ABCD908-6FFF-4149-8EE3-E77D807370E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CFC703-6E49-4E56-BF66-A0481ED6A4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BB77B9-F708-45E0-8118-C1C3B7A680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E134CD-E47F-4EE5-AD20-9816D89136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6FF4D3-6E9E-42FE-B863-466A7DA7DF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FD0260-3648-41CD-B714-B4AE962667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F8A9DD-6C13-4560-936B-D080C798F6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0F803D-10CA-45DB-AC54-716F7653FD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A68622-3443-4F61-BF16-71CD600AD8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044149-F89A-426F-A31B-8F8C9595B3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CAABD2-ED68-4FF0-B23B-64BF183DCE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7025B44-3010-40E0-842F-EE3CF5E38F9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2967A19-8A61-43CD-A29D-6D0B4567343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0D4BE0E-DAB9-4BEF-BD65-4051395EAC3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CD658C-1A06-4D22-9C9C-2D9B5C6F99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2B940A-6F66-4537-9377-F2DBC2413F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0BCBD0-1750-4A04-B094-7D56AAEBE7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3EE2B5-7E46-49D2-BB9F-F23B6A70FC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3D3450-5EDA-4F79-8A78-56952C83C5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EF4E38-D34C-4A3D-9F73-3BFEB3E7C9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07A542-9ADB-43A5-8716-429802ACD8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C419F1-3AE6-4CF3-AB47-BE3ED7861C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65F074-DB1B-44E2-A842-6226E2FADC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5E0662-EBC3-42CE-AF10-CAB9D60F12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43A917B-27C2-4352-9591-04F69922CDC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C6BD1F1-7AD6-44EB-80DD-7C5BDD407A5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75599B-AA72-4FA8-B1C0-20EE75354F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9E6319-730C-490C-AAC1-BBB19E8568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4EDAF-4250-4BC5-A450-27CA453A19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B3EE26-95C6-48B8-ABAE-E9EFC13CE3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CFBFEB-CA91-4AAA-B230-505A9E7119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FEF8A-DD8C-46DE-B125-3C5EA7620C26}"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www.bilisimogretmeni.com</a:t>
            </a:r>
            <a:endParaRPr b="0" lang="en-US" sz="1200" spc="-1" strike="noStrike">
              <a:solidFill>
                <a:srgbClr val="000000"/>
              </a:solidFill>
              <a:latin typeface="Times New Roman"/>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2ECA3-A140-42A9-9392-2F84ED2A7983}"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C9AB8-E208-4453-90EB-D48F71BC5220}"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C17A8-E2D3-4DF2-9365-167E9C18F9AD}"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Rectangle 2" descr=""/>
          <p:cNvPicPr/>
          <p:nvPr/>
        </p:nvPicPr>
        <p:blipFill>
          <a:blip r:embed="rId1"/>
          <a:stretch/>
        </p:blipFill>
        <p:spPr>
          <a:xfrm>
            <a:off x="542880" y="1609560"/>
            <a:ext cx="8309160" cy="1951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04617b"/>
                </a:solidFill>
                <a:latin typeface="Calibri"/>
              </a:rPr>
              <a:t>Çalıştırmak için;</a:t>
            </a:r>
            <a:endParaRPr b="0" lang="en-US" sz="54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cc0099"/>
                </a:solidFill>
                <a:latin typeface="Calibri"/>
              </a:rPr>
              <a:t>http://localhost/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 da ;</a:t>
            </a:r>
            <a:endParaRPr b="0" lang="en-US" sz="4000" spc="-1" strike="noStrike">
              <a:solidFill>
                <a:srgbClr val="000000"/>
              </a:solidFill>
              <a:latin typeface="Constantia"/>
            </a:endParaRPr>
          </a:p>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b050"/>
                </a:solidFill>
                <a:latin typeface="Calibri"/>
              </a:rPr>
              <a:t>http://127.0.0.1/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zılmalıdır.</a:t>
            </a:r>
            <a:endParaRPr b="0" lang="en-US" sz="4000" spc="-1" strike="noStrike">
              <a:solidFill>
                <a:srgbClr val="000000"/>
              </a:solidFill>
              <a:latin typeface="Constantia"/>
            </a:endParaRPr>
          </a:p>
        </p:txBody>
      </p:sp>
      <p:sp>
        <p:nvSpPr>
          <p:cNvPr id="23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58AA1-7E67-4280-B1E1-43E2C7840BA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2.php</a:t>
            </a:r>
            <a:endParaRPr b="0" lang="en-US" sz="5000" spc="-1" strike="noStrike">
              <a:solidFill>
                <a:srgbClr val="04617b"/>
              </a:solidFill>
              <a:latin typeface="Calibri"/>
            </a:endParaRPr>
          </a:p>
        </p:txBody>
      </p:sp>
      <p:sp>
        <p:nvSpPr>
          <p:cNvPr id="233" name=""/>
          <p:cNvSpPr txBox="1"/>
          <p:nvPr/>
        </p:nvSpPr>
        <p:spPr>
          <a:xfrm>
            <a:off x="250920" y="191628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lt;?php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echo “İkinci PHP örneği”;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gt;</a:t>
            </a: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onstantia"/>
              </a:rPr>
              <a:t>Çalıştırmak için Internet Explorer araç çubuğunda </a:t>
            </a:r>
            <a:r>
              <a:rPr b="0" lang="tr-TR" sz="2400" spc="-1" strike="noStrike">
                <a:solidFill>
                  <a:srgbClr val="ff6600"/>
                </a:solidFill>
                <a:latin typeface="Constantia"/>
              </a:rPr>
              <a:t>http://localhost/merhaba2.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3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37311-D13D-4CDA-B8E4-7D5B548F295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bilgi.php</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title&gt;&lt;/title&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Courier New"/>
                <a:ea typeface="Courier New"/>
              </a:rPr>
              <a:t>phpinfo(); </a:t>
            </a:r>
            <a:br>
              <a:rPr sz="2000"/>
            </a:b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phpbilgi.ph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DDF19-338B-464A-B36B-9D05A202B41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Arial"/>
              </a:rPr>
              <a:t>PHP’de Değişkenler</a:t>
            </a:r>
            <a:endParaRPr b="0" lang="en-US" sz="5000" spc="-1" strike="noStrike">
              <a:solidFill>
                <a:srgbClr val="04617b"/>
              </a:solidFill>
              <a:latin typeface="Calibri"/>
            </a:endParaRPr>
          </a:p>
        </p:txBody>
      </p:sp>
      <p:sp>
        <p:nvSpPr>
          <p:cNvPr id="239" name=""/>
          <p:cNvSpPr txBox="1"/>
          <p:nvPr/>
        </p:nvSpPr>
        <p:spPr>
          <a:xfrm>
            <a:off x="457200" y="1934640"/>
            <a:ext cx="75708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Değişkenleri bir kap gibi veya bir bardak gibi düşüne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rdağa suyu doldurup, boşaltabilir, sonra meyve suyu doldura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Nasıl bir bardak birçok şeyi doldurup boşaltabiliyorsa değişkene de aynı şekilde birçok değer dolup boşalabilir.</a:t>
            </a:r>
            <a:endParaRPr b="0" lang="en-US" sz="2600" spc="-1" strike="noStrike">
              <a:solidFill>
                <a:srgbClr val="000000"/>
              </a:solidFill>
              <a:latin typeface="Constantia"/>
            </a:endParaRPr>
          </a:p>
        </p:txBody>
      </p:sp>
      <p:sp>
        <p:nvSpPr>
          <p:cNvPr id="240"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19CB4-7965-4553-A4F8-57897558A7F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değişkenler</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 işareti ile başlar.</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 rakamla başlayamaz, değikenler içinde özel karakterler kullanılamaz. Ama alt çizgi (_) kullanabilirsiniz. </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siz değişken tanımları; </a:t>
            </a:r>
            <a:br>
              <a:rPr sz="2800"/>
            </a:br>
            <a:r>
              <a:rPr b="0" lang="tr-TR" sz="2800" spc="-1" strike="noStrike">
                <a:solidFill>
                  <a:srgbClr val="000000"/>
                </a:solidFill>
                <a:latin typeface="Calibri"/>
              </a:rPr>
              <a:t>$3not, $2x, $a(, $toplam?,</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li değişken tanımları;</a:t>
            </a:r>
            <a:br>
              <a:rPr sz="2800"/>
            </a:br>
            <a:r>
              <a:rPr b="0" lang="tr-TR" sz="2800" spc="-1" strike="noStrike">
                <a:solidFill>
                  <a:srgbClr val="000000"/>
                </a:solidFill>
                <a:latin typeface="Calibri"/>
              </a:rPr>
              <a:t>$not, $not1, $toplam, $notlar_toplami</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içinde Türkçe karakterler kullanılmaz: Örneğin;  </a:t>
            </a:r>
            <a:r>
              <a:rPr b="1" lang="tr-TR" sz="2800" spc="-1" strike="noStrike">
                <a:solidFill>
                  <a:srgbClr val="000000"/>
                </a:solidFill>
                <a:latin typeface="Courier New"/>
              </a:rPr>
              <a:t>ıİ,Şş,Çç,Ğğ,Öö,Üü</a:t>
            </a: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43"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B60EE-29D6-44F4-9C29-7AD73E697CB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b050"/>
                </a:solidFill>
                <a:latin typeface="Constantia"/>
              </a:rPr>
              <a:t>Tamsayı (integer)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0;</a:t>
            </a: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6600"/>
                </a:solidFill>
                <a:latin typeface="Constantia"/>
              </a:rPr>
              <a:t>Kayan noktalı (real)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2;</a:t>
            </a:r>
            <a:endParaRPr b="0" lang="en-US" sz="24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AEB53-4F44-4834-BB32-09704BA1002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amsayi.php</a:t>
            </a:r>
            <a:endParaRPr b="0" lang="en-US" sz="5000" spc="-1" strike="noStrike">
              <a:solidFill>
                <a:srgbClr val="04617b"/>
              </a:solidFill>
              <a:latin typeface="Calibri"/>
            </a:endParaRPr>
          </a:p>
        </p:txBody>
      </p:sp>
      <p:sp>
        <p:nvSpPr>
          <p:cNvPr id="24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 kısmı olmayan sayılardır, pozitif ve negatif olabilirler. Örnekler: 200, -929, 283838, 2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4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03;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39992;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p:txBody>
      </p:sp>
      <p:sp>
        <p:nvSpPr>
          <p:cNvPr id="249"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DB56E-18D6-4DF6-9EEC-6272B8D32B3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Kayan noktalı (real) veri türü</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lı kısmı bulunan sayılardır.  Ondalıklı sayılara çeşitli isimlerde rastlayabilirsiniz;  double, float, real gibi.</a:t>
            </a:r>
            <a:br>
              <a:rPr sz="2600"/>
            </a:br>
            <a:r>
              <a:rPr b="0" lang="tr-TR" sz="2600" spc="-1" strike="noStrike">
                <a:solidFill>
                  <a:srgbClr val="008000"/>
                </a:solidFill>
                <a:latin typeface="Constantia"/>
              </a:rPr>
              <a:t>ondalik.php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23.8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2.7;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5432.38;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52"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BEC7B-F389-47EE-BE50-DAD1637DB38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arakter Dizileri (string) veri türü</a:t>
            </a:r>
            <a:endParaRPr b="0" lang="en-US" sz="44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minden de anlaşılacağı gibi karakterlerden (harf, rakam, işaret) oluşan veri türüd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6600ff"/>
                </a:solidFill>
                <a:latin typeface="Constantia"/>
              </a:rPr>
              <a:t>Rakam (0,1,2,3,4,5,6,7,8,9)</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cc0099"/>
                </a:solidFill>
                <a:latin typeface="Constantia"/>
              </a:rPr>
              <a:t>Harf (a,A,b,B,c,C,d,D,e,E,f,F,g,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8000"/>
                </a:solidFill>
                <a:latin typeface="Constantia"/>
              </a:rPr>
              <a:t>İşaret (+,#,%,-,&am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veri türü çift tırnak veya tek tırnak olarak tanımlanabilmektedir. Aradaki fark çok önemlidir.</a:t>
            </a:r>
            <a:endParaRPr b="0" lang="en-US" sz="2600" spc="-1" strike="noStrike">
              <a:solidFill>
                <a:srgbClr val="000000"/>
              </a:solidFill>
              <a:latin typeface="Constantia"/>
            </a:endParaRPr>
          </a:p>
        </p:txBody>
      </p:sp>
      <p:sp>
        <p:nvSpPr>
          <p:cNvPr id="255"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4D0DF-C334-46C4-899D-89C4E1599E4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4617b"/>
                </a:solidFill>
                <a:latin typeface="Calibri"/>
              </a:rPr>
              <a:t>Karakter Dizileri (string) veri türü</a:t>
            </a:r>
            <a:endParaRPr b="0" lang="en-US" sz="4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Çift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Ankara Ünv. Bilgisayar Müh. yazar.</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Tek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okul Bilgisayar Müh. yazar.</a:t>
            </a:r>
            <a:endParaRPr b="0" lang="en-US" sz="2000" spc="-1" strike="noStrike">
              <a:solidFill>
                <a:srgbClr val="000000"/>
              </a:solidFill>
              <a:latin typeface="Constantia"/>
            </a:endParaRPr>
          </a:p>
          <a:p>
            <a:pPr marL="514440" indent="-514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514440" indent="-514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EF8D8-DFE6-4D92-9173-99A3EE0AEEA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Nedir?</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unucu-taraflı, platformdan bağımsız ve HTML içine gömülebilir bir betik dilidir. Genel yapı ve yazılım kuralları yönünden C ve Perl dillerine çok yakın bir dildir.</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asmus Lerdorf tarafından hazırlanan bu dil, kendi web sitesine bağlı olan kişilerin takibini yapılması isteği ile ortaya çıktı. Rasmus Lerdorf bu dile ilk başta "Personal Home Page" adını koydu (çünkü kendi kişisel web sayfası üzerinde kullanmıştı). Şu anda ise PHP sözcüğü, "PHP: Hypertext Preprocessor" sözcüklerinin baş harflerinden oluşan kısaltmayla tanımlanmaktadır. </a:t>
            </a:r>
            <a:endParaRPr b="0" lang="en-US" sz="2400" spc="-1" strike="noStrike">
              <a:solidFill>
                <a:srgbClr val="000000"/>
              </a:solidFill>
              <a:latin typeface="Constantia"/>
            </a:endParaRPr>
          </a:p>
        </p:txBody>
      </p:sp>
      <p:sp>
        <p:nvSpPr>
          <p:cNvPr id="20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BBCCA-3530-4D8A-A099-EA60053A8E8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af0d01"/>
                </a:solidFill>
                <a:latin typeface="Constantia"/>
              </a:rPr>
              <a:t>Dizi tipli (arrays) </a:t>
            </a:r>
            <a:r>
              <a:rPr b="0" lang="tr-TR" sz="2600" spc="-1" strike="noStrike">
                <a:solidFill>
                  <a:srgbClr val="000000"/>
                </a:solidFill>
                <a:latin typeface="Constantia"/>
              </a:rPr>
              <a:t>değişken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ad[0]=‘‘ANKAR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Not: Bu konu ilerleyen bölümlerde detaylıca incelenecek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84CD9-A072-4EB6-A82A-9E9E65154EB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cift.php</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çift tırnak içinde başka bir değişken varsa değeri</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basılır. Örneğin aşağıdaki örnekte ekrana </a:t>
            </a:r>
            <a:r>
              <a:rPr b="1" lang="tr-TR" sz="2400" spc="-1" strike="noStrike">
                <a:solidFill>
                  <a:srgbClr val="ff0000"/>
                </a:solidFill>
                <a:latin typeface="Calibri"/>
                <a:ea typeface="Courier New"/>
              </a:rPr>
              <a:t>Yaşasın Dünya</a:t>
            </a: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asılacaktır.</a:t>
            </a:r>
            <a:br>
              <a:rPr sz="2000"/>
            </a:b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cift.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6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566E9-8DD6-4934-AE13-6687EDBD24A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tek.php</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tek tırnak içinde başka bir değişken varsa değeri</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a:t>
            </a:r>
            <a:r>
              <a:rPr b="1" lang="tr-TR" sz="2400" spc="-1" strike="noStrike" u="sng">
                <a:solidFill>
                  <a:srgbClr val="000000"/>
                </a:solidFill>
                <a:uFillTx/>
                <a:latin typeface="Calibri"/>
                <a:ea typeface="Courier New"/>
              </a:rPr>
              <a:t>basılmaz</a:t>
            </a:r>
            <a:r>
              <a:rPr b="0" lang="tr-TR" sz="2400" spc="-1" strike="noStrike">
                <a:solidFill>
                  <a:srgbClr val="000000"/>
                </a:solidFill>
                <a:latin typeface="Calibri"/>
                <a:ea typeface="Courier New"/>
              </a:rPr>
              <a:t>. Örneğin aşağıdaki örnekte ekrana </a:t>
            </a:r>
            <a:r>
              <a:rPr b="1" lang="tr-TR" sz="2400" spc="-1" strike="noStrike">
                <a:solidFill>
                  <a:srgbClr val="ff0000"/>
                </a:solidFill>
                <a:latin typeface="Calibri"/>
                <a:ea typeface="Courier New"/>
              </a:rPr>
              <a:t>$degisken1</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Dünya </a:t>
            </a:r>
            <a:r>
              <a:rPr b="0" lang="tr-TR" sz="2400" spc="-1" strike="noStrike">
                <a:solidFill>
                  <a:srgbClr val="000000"/>
                </a:solidFill>
                <a:latin typeface="Calibri"/>
                <a:ea typeface="Courier New"/>
              </a:rPr>
              <a:t>basılacaktır.</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tek.php</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67"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24D32-4492-4975-8528-BBBA21A8817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Sabitler</a:t>
            </a:r>
            <a:endParaRPr b="0" lang="en-US" sz="5000" spc="-1" strike="noStrike">
              <a:solidFill>
                <a:srgbClr val="04617b"/>
              </a:solidFill>
              <a:latin typeface="Calibri"/>
            </a:endParaRPr>
          </a:p>
        </p:txBody>
      </p:sp>
      <p:sp>
        <p:nvSpPr>
          <p:cNvPr id="26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zen değerinin değiştirilmesini istemediğimiz durumlar olabilir. Örneği pi sayısı matematikte 3.14’e eşittir, bu değerin değişken gibi değiştirilmemesi gerekir.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Kullanımı Define (Sabitin ismi, değeri) şeklindedir. Örneğin;</a:t>
            </a:r>
            <a:endParaRPr b="0" lang="en-US" sz="26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ourier New"/>
              </a:rPr>
              <a:t>Define (“pi”, 3.14);</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urier New"/>
              </a:rPr>
              <a:t>echo (pi);</a:t>
            </a:r>
            <a:endParaRPr b="0" lang="en-US" sz="24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urada dikkat ederseniz PHP’de değişken tanımlamak için kullanılan $ işareti kullanılmadı.</a:t>
            </a:r>
            <a:endParaRPr b="0" lang="en-US" sz="2600" spc="-1" strike="noStrike">
              <a:solidFill>
                <a:srgbClr val="000000"/>
              </a:solidFill>
              <a:latin typeface="Constantia"/>
            </a:endParaRPr>
          </a:p>
        </p:txBody>
      </p:sp>
      <p:sp>
        <p:nvSpPr>
          <p:cNvPr id="27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18D1E-9E57-4F55-9FE8-02C3E9CBD4E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öğrenme</a:t>
            </a:r>
            <a:endParaRPr b="0" lang="en-US" sz="5000" spc="-1" strike="noStrike">
              <a:solidFill>
                <a:srgbClr val="04617b"/>
              </a:solidFill>
              <a:latin typeface="Calibri"/>
            </a:endParaRPr>
          </a:p>
        </p:txBody>
      </p:sp>
      <p:sp>
        <p:nvSpPr>
          <p:cNvPr id="27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g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öndür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değiştirme</a:t>
            </a:r>
            <a:endParaRPr b="0" lang="en-US" sz="5000" spc="-1" strike="noStrike">
              <a:solidFill>
                <a:srgbClr val="04617b"/>
              </a:solidFill>
              <a:latin typeface="Calibri"/>
            </a:endParaRPr>
          </a:p>
        </p:txBody>
      </p:sp>
      <p:sp>
        <p:nvSpPr>
          <p:cNvPr id="27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eğiştiri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type($virgullu,strin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 silme</a:t>
            </a:r>
            <a:endParaRPr b="0" lang="en-US" sz="5000" spc="-1" strike="noStrike">
              <a:solidFill>
                <a:srgbClr val="04617b"/>
              </a:solidFill>
              <a:latin typeface="Calibri"/>
            </a:endParaRPr>
          </a:p>
        </p:txBody>
      </p:sp>
      <p:sp>
        <p:nvSpPr>
          <p:cNvPr id="27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unset()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 hafızadan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nkara Ünv.";</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unset($degiske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n değerini kontrol etme</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fontScale="91000"/>
          </a:bodyPr>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empty() fonksiyonu:</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değişkenin değerinin olup olmadığını kontrol ed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f(empty($degisken))</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değişken değeri boş veya geçersiz değ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ve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r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r</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nin Avantajları</a:t>
            </a:r>
            <a:endParaRPr b="0" lang="en-U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ok hızlı bir dil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hat ve hızlı kodlama yapılabil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rlenmesine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ernette büyük bir geliştirici grubuna sahip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platformdan bağımsız olduğu için Windows, Linux, MacOS gibi birbirinden farklı platformlarda çalışabilir.</a:t>
            </a:r>
            <a:endParaRPr b="0" lang="en-US" sz="2600" spc="-1" strike="noStrike">
              <a:solidFill>
                <a:srgbClr val="000000"/>
              </a:solidFill>
              <a:latin typeface="Constantia"/>
            </a:endParaRPr>
          </a:p>
        </p:txBody>
      </p:sp>
      <p:sp>
        <p:nvSpPr>
          <p:cNvPr id="21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D204C-B155-4591-A98F-8335827E72D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l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l</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Kontrol Fonksiyonları</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strin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i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flo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loatva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string() fonksiyonu</a:t>
            </a:r>
            <a:endParaRPr b="0" lang="en-US" sz="50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string türünde mi diye bakar. Belirtilen değişken string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string("23")) {</a:t>
            </a:r>
            <a:br>
              <a:rPr sz="2600"/>
            </a:br>
            <a:r>
              <a:rPr b="0" lang="tr-TR" sz="2600" spc="-1" strike="noStrike">
                <a:solidFill>
                  <a:srgbClr val="000000"/>
                </a:solidFill>
                <a:latin typeface="Constantia"/>
              </a:rPr>
              <a:t>    echo "dizgedi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dizge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int() fonksiyonu</a:t>
            </a:r>
            <a:endParaRPr b="0" lang="en-US" sz="50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bir tamsayı mı diye bakar. Belirtilen değişkenin değeri tamsayı i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d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int(23)) {</a:t>
            </a:r>
            <a:br>
              <a:rPr sz="2600"/>
            </a:br>
            <a:r>
              <a:rPr b="0" lang="tr-TR" sz="2600" spc="-1" strike="noStrike">
                <a:solidFill>
                  <a:srgbClr val="000000"/>
                </a:solidFill>
                <a:latin typeface="Constantia"/>
              </a:rPr>
              <a:t>    echo "tamsayıdı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tamsayı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float() fonksiyonu</a:t>
            </a:r>
            <a:endParaRPr b="0" lang="en-US" sz="50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float türünde mi diye bakar. Belirtilen değişken float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float(27.25)) {</a:t>
            </a:r>
            <a:br>
              <a:rPr sz="2600"/>
            </a:br>
            <a:r>
              <a:rPr b="0" lang="tr-TR" sz="2600" spc="-1" strike="noStrike">
                <a:solidFill>
                  <a:srgbClr val="000000"/>
                </a:solidFill>
                <a:latin typeface="Constantia"/>
              </a:rPr>
              <a:t>    echo "float türünde\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float türünde değil\n";</a:t>
            </a:r>
            <a:br>
              <a:rPr sz="2600"/>
            </a:br>
            <a:r>
              <a:rPr b="0" lang="tr-TR" sz="2600" spc="-1" strike="noStrike">
                <a:solidFill>
                  <a:srgbClr val="000000"/>
                </a:solidFill>
                <a:latin typeface="Constantia"/>
              </a:rPr>
              <a:t>}</a:t>
            </a:r>
            <a:br>
              <a:rPr sz="2600"/>
            </a:b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rval() fonksiyonu</a:t>
            </a:r>
            <a:endParaRPr b="0" lang="en-US" sz="5000" spc="-1" strike="noStrike">
              <a:solidFill>
                <a:srgbClr val="04617b"/>
              </a:solidFill>
              <a:latin typeface="Calibri"/>
            </a:endParaRPr>
          </a:p>
        </p:txBody>
      </p:sp>
      <p:sp>
        <p:nvSpPr>
          <p:cNvPr id="294" name=""/>
          <p:cNvSpPr txBox="1"/>
          <p:nvPr/>
        </p:nvSpPr>
        <p:spPr>
          <a:xfrm>
            <a:off x="456840" y="1934640"/>
            <a:ext cx="497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ısal değişkeni stringe çevir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i=90;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trval($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kran çıktısı: integer string</a:t>
            </a:r>
            <a:endParaRPr b="0" lang="en-US" sz="2600" spc="-1" strike="noStrike">
              <a:solidFill>
                <a:srgbClr val="000000"/>
              </a:solidFill>
              <a:latin typeface="Constantia"/>
            </a:endParaRPr>
          </a:p>
        </p:txBody>
      </p:sp>
      <p:sp>
        <p:nvSpPr>
          <p:cNvPr id="295" name="Rectangle 3"/>
          <p:cNvSpPr/>
          <p:nvPr/>
        </p:nvSpPr>
        <p:spPr>
          <a:xfrm>
            <a:off x="5724360" y="2362320"/>
            <a:ext cx="2951280" cy="2288520"/>
          </a:xfrm>
          <a:prstGeom prst="rect">
            <a:avLst/>
          </a:prstGeom>
          <a:solidFill>
            <a:srgbClr val="ffffff"/>
          </a:solidFill>
          <a:ln w="25560">
            <a:solidFill>
              <a:srgbClr val="009dd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u şekilde de yazılabilir.</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90;  </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strval($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ntval() fonksiyonu</a:t>
            </a:r>
            <a:endParaRPr b="0" lang="en-US" sz="50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fontScale="83000"/>
          </a:bodyPr>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sayısal bir değere dönüştürür.</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br>
              <a:rPr sz="2600"/>
            </a:br>
            <a:r>
              <a:rPr b="0" lang="tr-TR" sz="2600" spc="-1" strike="noStrike">
                <a:solidFill>
                  <a:srgbClr val="000000"/>
                </a:solidFill>
                <a:latin typeface="Constantia"/>
              </a:rPr>
              <a:t>    $deyim = "42a55bc4t";  </a:t>
            </a:r>
            <a:r>
              <a:rPr b="0" lang="tr-TR" sz="1800" spc="-1" strike="noStrike">
                <a:solidFill>
                  <a:srgbClr val="000000"/>
                </a:solidFill>
                <a:latin typeface="Constantia"/>
              </a:rPr>
              <a:t>//sol başta rakam yoksa  sıfır değeri olur.</a:t>
            </a:r>
            <a:br>
              <a:rPr sz="1800"/>
            </a:br>
            <a:r>
              <a:rPr b="0" lang="tr-TR" sz="2600" spc="-1" strike="noStrike">
                <a:solidFill>
                  <a:srgbClr val="000000"/>
                </a:solidFill>
                <a:latin typeface="Constantia"/>
              </a:rPr>
              <a:t>    $sayi = intval( $deyim );</a:t>
            </a:r>
            <a:br>
              <a:rPr sz="2600"/>
            </a:br>
            <a:r>
              <a:rPr b="0" lang="tr-TR" sz="2600" spc="-1" strike="noStrike">
                <a:solidFill>
                  <a:srgbClr val="000000"/>
                </a:solidFill>
                <a:latin typeface="Constantia"/>
              </a:rPr>
              <a:t>    echo $sayi; // 42 olacaktır.</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yim=40.9 gibi float  olsa sonuc 40 olurdu.</a:t>
            </a:r>
            <a:br>
              <a:rPr sz="2600"/>
            </a:b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loatval() fonksiyonu</a:t>
            </a:r>
            <a:endParaRPr b="0" lang="en-US" sz="5000" spc="-1" strike="noStrike">
              <a:solidFill>
                <a:srgbClr val="04617b"/>
              </a:solidFill>
              <a:latin typeface="Calibri"/>
            </a:endParaRPr>
          </a:p>
        </p:txBody>
      </p:sp>
      <p:sp>
        <p:nvSpPr>
          <p:cNvPr id="29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float bir değere dönüşt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deyim = "60.34as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sayi = floatval(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echo $sayi; // 60.34 olacakt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1)</a:t>
            </a:r>
            <a:endParaRPr b="0" lang="en-US" sz="5000" spc="-1" strike="noStrike">
              <a:solidFill>
                <a:srgbClr val="04617b"/>
              </a:solidFill>
              <a:latin typeface="Calibri"/>
            </a:endParaRPr>
          </a:p>
        </p:txBody>
      </p:sp>
      <p:sp>
        <p:nvSpPr>
          <p:cNvPr id="301" name=""/>
          <p:cNvSpPr txBox="1"/>
          <p:nvPr/>
        </p:nvSpPr>
        <p:spPr>
          <a:xfrm>
            <a:off x="468360" y="1916280"/>
            <a:ext cx="8229600" cy="438912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Topla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4)</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ıkar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6</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3)</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arp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4</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00ff"/>
                </a:solidFill>
                <a:latin typeface="Constantia"/>
              </a:rPr>
              <a:t>;</a:t>
            </a:r>
            <a:r>
              <a:rPr b="0" lang="tr-TR" sz="2000" spc="-1" strike="noStrike">
                <a:solidFill>
                  <a:srgbClr val="00cc66"/>
                </a:solidFill>
                <a:latin typeface="Constantia"/>
              </a:rPr>
              <a:t> </a:t>
            </a:r>
            <a:r>
              <a:rPr b="0" lang="tr-TR" sz="2000" spc="-1" strike="noStrike">
                <a:solidFill>
                  <a:srgbClr val="000000"/>
                </a:solidFill>
                <a:latin typeface="Calibri"/>
              </a:rPr>
              <a:t>(Sonuç :8)</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Bölme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1)</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Mod alma Operatörü (İki sayının bölümünden kalan)</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8</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2)</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2"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659C9-D18A-4221-856D-35CEBA46F62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2)</a:t>
            </a:r>
            <a:r>
              <a:rPr b="0" lang="tr-TR" sz="5000" spc="-1" strike="noStrike">
                <a:solidFill>
                  <a:srgbClr val="04617b"/>
                </a:solidFill>
                <a:latin typeface="Arial"/>
              </a:rPr>
              <a:t>	</a:t>
            </a:r>
            <a:endParaRPr b="0" lang="en-US" sz="5000" spc="-1" strike="noStrike">
              <a:solidFill>
                <a:srgbClr val="04617b"/>
              </a:solidFill>
              <a:latin typeface="Calibri"/>
            </a:endParaRPr>
          </a:p>
        </p:txBody>
      </p:sp>
      <p:sp>
        <p:nvSpPr>
          <p:cNvPr id="304"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1;</a:t>
            </a:r>
            <a:r>
              <a:rPr b="1" lang="tr-TR" sz="2000" spc="-1" strike="noStrike">
                <a:solidFill>
                  <a:srgbClr val="000000"/>
                </a:solidFill>
                <a:latin typeface="Courier New"/>
              </a:rPr>
              <a:t> </a:t>
            </a:r>
            <a:r>
              <a:rPr b="1" lang="tr-TR" sz="2000" spc="-1" strike="noStrike">
                <a:solidFill>
                  <a:srgbClr val="0000ff"/>
                </a:solidFill>
                <a:latin typeface="Courier New"/>
              </a:rPr>
              <a:t>$a+=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 </a:t>
            </a: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1;</a:t>
            </a:r>
            <a:r>
              <a:rPr b="1" lang="tr-TR" sz="2000" spc="-1" strike="noStrike">
                <a:solidFill>
                  <a:srgbClr val="000000"/>
                </a:solidFill>
                <a:latin typeface="Courier New"/>
              </a:rPr>
              <a:t>  </a:t>
            </a:r>
            <a:r>
              <a:rPr b="1" lang="tr-TR" sz="2000" spc="-1" strike="noStrike">
                <a:solidFill>
                  <a:srgbClr val="0000ff"/>
                </a:solidFill>
                <a:latin typeface="Courier New"/>
              </a:rPr>
              <a:t>$a-=1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p:txBody>
      </p:sp>
      <p:sp>
        <p:nvSpPr>
          <p:cNvPr id="305"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7D4FA-F6CC-4F81-90DF-99F836CD642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atik ve Dinamik Dil nedir?</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Statik Dil: </a:t>
            </a:r>
            <a:r>
              <a:rPr b="0" lang="tr-TR" sz="2600" spc="-1" strike="noStrike">
                <a:solidFill>
                  <a:srgbClr val="000000"/>
                </a:solidFill>
                <a:latin typeface="Constantia"/>
              </a:rPr>
              <a:t>Kaynak kodları kullanıcı tarafından görülebilen web programlama dilidir. Bu dil HTML olarak adlandır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Dinamik Dil: </a:t>
            </a:r>
            <a:r>
              <a:rPr b="0" lang="tr-TR" sz="2600" spc="-1" strike="noStrike">
                <a:solidFill>
                  <a:srgbClr val="000000"/>
                </a:solidFill>
                <a:latin typeface="Constantia"/>
              </a:rPr>
              <a:t>Kaynak kodları kullanıcı tarafından görülemeyen, önce sunucu tarafında çalışıp HTML koduna çevrilip kullanıcıya gönderilen diller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n çok kullanılan diller PHP ve ASP.NET’dir.</a:t>
            </a:r>
            <a:endParaRPr b="0" lang="en-US" sz="2600" spc="-1" strike="noStrike">
              <a:solidFill>
                <a:srgbClr val="000000"/>
              </a:solidFill>
              <a:latin typeface="Constantia"/>
            </a:endParaRPr>
          </a:p>
        </p:txBody>
      </p:sp>
      <p:sp>
        <p:nvSpPr>
          <p:cNvPr id="21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311F2-751D-4C36-83F9-46477179F36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3)</a:t>
            </a:r>
            <a:endParaRPr b="0" lang="en-US" sz="5000" spc="-1" strike="noStrike">
              <a:solidFill>
                <a:srgbClr val="04617b"/>
              </a:solidFill>
              <a:latin typeface="Calibri"/>
            </a:endParaRPr>
          </a:p>
        </p:txBody>
      </p:sp>
      <p:sp>
        <p:nvSpPr>
          <p:cNvPr id="30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3)</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8"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159C7-FC25-48DD-B732-7786829D223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4)</a:t>
            </a:r>
            <a:endParaRPr b="0" lang="en-US" sz="50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1"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5CD86-5A6F-40CF-9B1F-4F618F77456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5)</a:t>
            </a:r>
            <a:endParaRPr b="0" lang="en-US" sz="50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Atama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toplam=$a+$b;</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4"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05463-9D43-4AF7-B678-C4CC20690D9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6)</a:t>
            </a:r>
            <a:endParaRPr b="0" lang="en-US" sz="5000" spc="-1" strike="noStrike">
              <a:solidFill>
                <a:srgbClr val="04617b"/>
              </a:solidFill>
              <a:latin typeface="Calibri"/>
            </a:endParaRPr>
          </a:p>
        </p:txBody>
      </p:sp>
      <p:sp>
        <p:nvSpPr>
          <p:cNvPr id="316" name=""/>
          <p:cNvSpPr txBox="1"/>
          <p:nvPr/>
        </p:nvSpPr>
        <p:spPr>
          <a:xfrm>
            <a:off x="468360" y="1988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String Birleştirme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soyad="Ak";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soyad=$ad.$soyad;</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krana AliAk Yazar.</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7"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F7A5B-6C59-4AF2-B34F-15374C01471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7)</a:t>
            </a:r>
            <a:endParaRPr b="0" lang="en-US" sz="5000" spc="-1" strike="noStrike">
              <a:solidFill>
                <a:srgbClr val="04617b"/>
              </a:solidFill>
              <a:latin typeface="Calibri"/>
            </a:endParaRPr>
          </a:p>
        </p:txBody>
      </p:sp>
      <p:sp>
        <p:nvSpPr>
          <p:cNvPr id="31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Mantıksal Operatörle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And  Kullanımı: &amp;&amp;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Or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Not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genellikle Şartlı yapılarda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Örnekleri şartlı yapılar konusunda verilecektir.</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C4F61-0DC9-4E73-809F-4CA58B2D213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8)</a:t>
            </a:r>
            <a:endParaRPr b="0" lang="en-US" sz="5000" spc="-1" strike="noStrike">
              <a:solidFill>
                <a:srgbClr val="04617b"/>
              </a:solidFill>
              <a:latin typeface="Calibri"/>
            </a:endParaRPr>
          </a:p>
        </p:txBody>
      </p:sp>
      <p:sp>
        <p:nvSpPr>
          <p:cNvPr id="322"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Karşılaştırma Operatörleri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 değil</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de yine bir önceki slaytta belirtildiği gibi karşılaştırma işlemlerinde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3"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2FFFC-9610-42F2-9470-6954409D681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oplam.php</a:t>
            </a:r>
            <a:endParaRPr b="0" lang="en-US" sz="5000" spc="-1" strike="noStrike">
              <a:solidFill>
                <a:srgbClr val="04617b"/>
              </a:solidFill>
              <a:latin typeface="Calibri"/>
            </a:endParaRPr>
          </a:p>
        </p:txBody>
      </p:sp>
      <p:sp>
        <p:nvSpPr>
          <p:cNvPr id="325"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toplam=$sayi1 + $sayi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Toplam sonucu:".$toplam;</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toplam.php</a:t>
            </a:r>
            <a:endParaRPr b="0" lang="en-US" sz="2400" spc="-1" strike="noStrike">
              <a:solidFill>
                <a:srgbClr val="000000"/>
              </a:solidFill>
              <a:latin typeface="Constantia"/>
            </a:endParaRPr>
          </a:p>
        </p:txBody>
      </p:sp>
      <p:sp>
        <p:nvSpPr>
          <p:cNvPr id="326"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C82E1-9A83-451B-8C6F-B658B8EBAC2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68360" y="259920"/>
            <a:ext cx="8229600" cy="13842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lem.php</a:t>
            </a:r>
            <a:endParaRPr b="0" lang="en-US" sz="5000" spc="-1" strike="noStrike">
              <a:solidFill>
                <a:srgbClr val="04617b"/>
              </a:solidFill>
              <a:latin typeface="Calibri"/>
            </a:endParaRPr>
          </a:p>
        </p:txBody>
      </p:sp>
      <p:sp>
        <p:nvSpPr>
          <p:cNvPr id="328" name=""/>
          <p:cNvSpPr txBox="1"/>
          <p:nvPr/>
        </p:nvSpPr>
        <p:spPr>
          <a:xfrm>
            <a:off x="468360" y="1413000"/>
            <a:ext cx="8229600" cy="4618080"/>
          </a:xfrm>
          <a:prstGeom prst="rect">
            <a:avLst/>
          </a:prstGeom>
          <a:noFill/>
          <a:ln w="0">
            <a:noFill/>
          </a:ln>
        </p:spPr>
        <p:txBody>
          <a:bodyPr anchor="t">
            <a:normAutofit/>
          </a:bodyPr>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bolsonuc=$sayi1/$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ikarsonuc=$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mod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arp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bölüm sonucu:%d".$bol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ıkarım sonucu:%d".$cikar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mod sonucu:%d".$mod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arpim sonucu:%d".$carp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islem.php</a:t>
            </a:r>
            <a:endParaRPr b="0" lang="en-US" sz="2400" spc="-1" strike="noStrike">
              <a:solidFill>
                <a:srgbClr val="000000"/>
              </a:solidFill>
              <a:latin typeface="Constantia"/>
            </a:endParaRPr>
          </a:p>
        </p:txBody>
      </p:sp>
      <p:sp>
        <p:nvSpPr>
          <p:cNvPr id="329"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24B44-104C-47DB-A679-1AA69BD4307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PHP’nin çalışması için gerekenler</a:t>
            </a:r>
            <a:endParaRPr b="0" lang="en-US" sz="4500" spc="-1" strike="noStrike">
              <a:solidFill>
                <a:srgbClr val="04617b"/>
              </a:solidFill>
              <a:latin typeface="Calibri"/>
            </a:endParaRPr>
          </a:p>
        </p:txBody>
      </p:sp>
      <p:sp>
        <p:nvSpPr>
          <p:cNvPr id="216" name=""/>
          <p:cNvSpPr txBox="1"/>
          <p:nvPr/>
        </p:nvSpPr>
        <p:spPr>
          <a:xfrm>
            <a:off x="457200" y="190512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Apache Web Sunucusu</a:t>
            </a:r>
            <a:r>
              <a:rPr b="0" lang="tr-TR" sz="2800" spc="-1" strike="noStrike">
                <a:solidFill>
                  <a:srgbClr val="f49100"/>
                </a:solidFill>
                <a:latin typeface="Calibri"/>
              </a:rPr>
              <a:t>(http://www.apache.org)</a:t>
            </a:r>
            <a:endParaRPr b="0" lang="en-US" sz="28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MySQL (Veritabanı) </a:t>
            </a:r>
            <a:r>
              <a:rPr b="0" lang="tr-TR" sz="2600" spc="-1" strike="noStrike">
                <a:solidFill>
                  <a:srgbClr val="ffc000"/>
                </a:solidFill>
                <a:latin typeface="Calibri"/>
              </a:rPr>
              <a:t>(www.mysql.com)</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myAdmin (Veritabanı yönetimi için)</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 Kütüphaneleri</a:t>
            </a:r>
            <a:endParaRPr b="0" lang="en-US" sz="26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Yukarıdakilerin toplu olarak kurulduğu paketler;</a:t>
            </a:r>
            <a:endParaRPr b="0" lang="en-US" sz="28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EasyPHP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WampServer</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Xam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Apachetriad</a:t>
            </a:r>
            <a:endParaRPr b="0" lang="en-US" sz="2400" spc="-1" strike="noStrike">
              <a:solidFill>
                <a:srgbClr val="000000"/>
              </a:solidFill>
              <a:latin typeface="Constantia"/>
            </a:endParaRPr>
          </a:p>
        </p:txBody>
      </p:sp>
      <p:sp>
        <p:nvSpPr>
          <p:cNvPr id="21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BD0F5-CC9F-4E84-ADA3-C2755FEAED6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Program Yapısı</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şu şekilde yaz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ada</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Line Callout 2 3"/>
          <p:cNvSpPr/>
          <p:nvPr/>
        </p:nvSpPr>
        <p:spPr>
          <a:xfrm>
            <a:off x="3059280" y="2637000"/>
            <a:ext cx="4465440" cy="1584000"/>
          </a:xfrm>
          <a:prstGeom prst="borderCallout2">
            <a:avLst>
              <a:gd name="adj1" fmla="val 18750"/>
              <a:gd name="adj2" fmla="val -8333"/>
              <a:gd name="adj3" fmla="val 18518"/>
              <a:gd name="adj4" fmla="val -16666"/>
              <a:gd name="adj5" fmla="val 44157"/>
              <a:gd name="adj6" fmla="val -47703"/>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etiketler bazen kullanılamayabilir. Bunun için php.ini dosyası içinde short_open_tag değeri «on» yapılmalıdır.</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Ekrana mesaj yazdırma</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Echo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Print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Hello World");</a:t>
            </a: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php</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lt;?php </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ourier New"/>
                <a:ea typeface="Courier New"/>
              </a:rPr>
              <a:t>echo “merhaba PHP”;</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gt;</a:t>
            </a:r>
            <a:endParaRPr b="0" lang="en-US" sz="3200" spc="-1" strike="noStrike">
              <a:solidFill>
                <a:srgbClr val="000000"/>
              </a:solidFill>
              <a:latin typeface="Constantia"/>
            </a:endParaRPr>
          </a:p>
        </p:txBody>
      </p:sp>
      <p:sp>
        <p:nvSpPr>
          <p:cNvPr id="225"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7D97D-7BAA-447A-8941-7330347B796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alıştırmak için;</a:t>
            </a:r>
            <a:endParaRPr b="0" lang="en-US" sz="5000" spc="-1" strike="noStrike">
              <a:solidFill>
                <a:srgbClr val="04617b"/>
              </a:solidFill>
              <a:latin typeface="Calibri"/>
            </a:endParaRPr>
          </a:p>
        </p:txBody>
      </p:sp>
      <p:sp>
        <p:nvSpPr>
          <p:cNvPr id="227"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Merhaba.php dosyasını Windows’ta Not Defteri’nde yazarak oluşturup;</a:t>
            </a:r>
            <a:br>
              <a:rPr sz="2000"/>
            </a:br>
            <a:endParaRPr b="0" lang="en-US" sz="20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Wamp kullanıyorsanız ;</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Wamp\htdocs dizinine;</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EasyPHP kullanıyorsanız</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ProgramFiles\EasyPHP\htdocs</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klasörüne kaydediniz. </a:t>
            </a:r>
            <a:br>
              <a:rPr sz="2800"/>
            </a:br>
            <a:endParaRPr b="0" lang="en-US" sz="28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Wamp ve EasyPHP’nin yeni versiyonlarında veya kurulum yaparken</a:t>
            </a:r>
            <a:endParaRPr b="0" lang="en-US" sz="20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 yollar değişmiş olabilir, genelde htdocs klasörüne kaydedilir.</a:t>
            </a:r>
            <a:endParaRPr b="0" lang="en-US" sz="2000" spc="-1" strike="noStrike">
              <a:solidFill>
                <a:srgbClr val="000000"/>
              </a:solidFill>
              <a:latin typeface="Constantia"/>
            </a:endParaRPr>
          </a:p>
        </p:txBody>
      </p:sp>
      <p:sp>
        <p:nvSpPr>
          <p:cNvPr id="22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8E80D-8389-46FD-9F37-3CCF99FC6C8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15:43:57Z</dcterms:created>
  <dc:creator>Emre&amp;Ceyda</dc:creator>
  <dc:description/>
  <dc:language>en-US</dc:language>
  <cp:lastModifiedBy>Vento</cp:lastModifiedBy>
  <dcterms:modified xsi:type="dcterms:W3CDTF">2013-11-26T12:33:31Z</dcterms:modified>
  <cp:revision>40</cp:revision>
  <dc:subject/>
  <dc:title>PHP </dc:title>
</cp:coreProperties>
</file>