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C202-1D1D-4418-B655-3C3B899C8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D761-518B-4653-89C2-E71112DA6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17AF-EB5A-4049-85AF-A7C83657D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8F1E-F3DB-470F-9611-CED86EC64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0544A-CD9F-4FCB-9C8C-0C265B523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B470E-2A95-4DA2-A2C6-D49FBCB02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F69AE-3F72-4BC8-8AF7-38768DA05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34FD7-66C7-49C9-96F0-5540D0BFE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A8A80-B8A9-4E5A-B406-4C5BDE9C3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CE24C-2C4D-45D9-BFC3-F4704B131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503EC-DED0-49D3-9926-3D113534E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169C-A20E-441B-8C5B-428C98BF9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EE6C8-C73A-44DE-AADC-977F25C7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6EB7F-3E38-4899-8907-CE13CAD1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DF1CC-C65B-4BE6-9D0D-E25CB5082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52808-BD84-4A02-9518-F08093D5E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FDF6A-A487-4F25-9AEF-8B3611255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30265-A6DE-4EDE-8F91-05DB472B3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70F25-0606-4482-94C8-B29C3E6E2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9DA42-6796-4B32-AAC6-5C8C04F75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3C08B-7643-4BF3-8159-021B2D822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514D1-59B0-4756-8B7D-3A77BBDB3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561D-09E4-4819-A3DD-0F05B7E3B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4718C-B639-4B89-8CAC-6628CF8A6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A9931-F162-4D6E-A814-00682902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4D199-1143-4FFC-8ECD-BACB4BE7D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02619-0625-4249-91E4-2D4D6B750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D4EEC-FD24-4AEA-AE6E-4554674E8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1F533-ACEB-4EEE-A147-8FD897617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8C884-A40E-4312-A52B-5DA80E34B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30E0D-9AD5-4029-B1CF-B245A021B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68238-D551-47D0-95D7-C16F66DD4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BDFE9-B1FC-4673-984B-120372CCD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7254-D826-449C-A4D9-65C9ECF1A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9F2A9-086B-4759-9790-6FD97351B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3508B-DF93-4AC4-B4E5-CBFAE9F5E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7D2FF-270D-41C7-9496-16F6272B9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E66EB-9B15-4FF7-8707-E86C75645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F6809-6FF6-4FB5-8211-C514E9A1D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AC78D-BAFD-4425-AE59-88381FB2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65E6B-42E2-475C-BE90-0A281EBEA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BCDA1-589F-425D-991A-1EFD84D57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B9F31-C6DB-4251-BC9B-4DD305BB3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3B61A-347F-4483-A18F-80D4452BD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70EA-732A-4B85-BA38-44FB7F74D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13ADE-DBF4-4BB6-975E-E11BB0EAF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4A4D9-5E98-44FF-9D3E-19DEB41E3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23172-79DF-440C-A1E7-8378303CD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B078B0-B9AE-41F1-83BA-11E56D1C5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8C9DC-8ECC-4F67-95B1-4FC27CF44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15164E-FE31-4623-B523-DF76C0B2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BA6FA6-DC27-485B-AA35-CAD7BD495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22F7B8-C4B9-45A9-B481-F8DCE5E1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73BFB-5811-49CA-8856-A5529D741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CCDF9-6651-41BA-AE02-B52ADF697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A77A-E263-4CA1-AA86-81CC311E3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50D48-CA9B-4E05-A734-8ECDE8520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2E144D-1E3D-406B-8B93-62014FC0E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66A1B7-841A-4258-9E1A-C03E7FF23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6745D2-CA35-408E-8337-42F0488E0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5B8EBB-8035-4969-A91C-E58143A16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08F3B6-0B24-4419-A96E-63C0CE225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E5F858-E5DD-4A0D-9083-14427AADC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7ED2C9-6AEE-492D-939A-FEE70101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1E67B9-11F7-4A6B-B136-3C5DCB7B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798DDE-263D-4E0E-BF34-3F2A844C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A2BF-E303-4D5F-AC77-E634A4FF3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0A5F74-0F16-45FD-AE0D-11F356796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F0A4E9-E321-45BA-BE8B-24FB238AE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202654-E936-42DF-AB87-3F3F978F6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DB599D-1797-4D56-8BF4-3E592617C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D6779F-4F9C-46A9-8BF7-0AF6BEE16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16BA48-B874-469C-8586-61DB7E414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990B9C-0361-450B-B22D-7208E0B3A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A53EA8-3AAA-4E82-82CC-DBF54B256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569B09-6A5A-475C-AA15-075C4CA45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26C705-4C9F-4DAC-AA65-6E19E269E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EBD1-8BCE-48EB-A56F-AB3E638BA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A57AA0-ED2A-4C0F-88C3-6E71D618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F9A0DB-8BC6-429C-9BE9-B43BEC70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49BB68-F689-4987-87AC-68A94FF71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227958-619A-497D-B3B7-205E6A179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4D770A-6038-4AD9-84B5-FB3E8C2F0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AFCB3C-D5A3-49D0-8A66-B129672F7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705859-6DFF-4C2A-82E4-345896963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6A28D5-1201-484D-9986-A5C64CD7F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99FDB3-7EC3-48C2-B8C1-9E8735629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BD42A7-F9F2-4941-9EA6-611986D7A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5CE6-5C8B-4ED7-9490-A28A2D1EA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1B51EC-FE18-46A6-B850-7CD8096DE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5BC869-DF54-418A-9422-D6AC0D26C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9269C8-A9A8-423E-BF3F-FCCFB47C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78CB7C-29B1-4CF0-8A05-CF5420E1B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EBFCC9-D078-4901-B73A-FAC3D8E36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1A94AA-42A2-46A1-9C7E-D89D4EA36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EFFF02-02B5-400C-ADD3-B4E5803FD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6F4C7-F463-4D5C-994D-4A3DBF2A8CBF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33A2F-8A80-460D-8377-E7DD94E3DFD1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D1410-B181-40D2-A223-DAFEF42A7D4F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16F7C-3412-49CA-A65A-5976DD586D8B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067B0-760D-4C27-BE8E-7485D287EE46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A4F25-3580-4600-938C-A9F8BC89DF7A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A64CA-B934-4779-BE8F-0BB3D7690934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6D9EF-FE73-4151-B7F2-5B49E3A5D745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Php Sunum 6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464653"/>
                </a:solidFill>
                <a:latin typeface="Bookman Old Style"/>
              </a:rPr>
              <a:t>Dosya ve Klasör İşlemler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siz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uzunluğunu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Rectangle 4"/>
          <p:cNvSpPr/>
          <p:nvPr/>
        </p:nvSpPr>
        <p:spPr>
          <a:xfrm>
            <a:off x="2286000" y="292428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sı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somefile.txt: 1024 bytes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somefile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: '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 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bytes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a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a son erişim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2124000" y="2749680"/>
            <a:ext cx="561672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erişim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a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m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değişiklik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2050920" y="2708280"/>
            <a:ext cx="568980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değişiklik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m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touch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erişim ve değişiklik zamanını ayarlar. Dosya mevcut değilse oluşturul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touc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dosyaismi [,zaman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[, ezamanı ]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dosyaismi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Erişilecek dosyanın ismi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işiklik zamanı. Eğer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emişse, o anki zaman kullanıl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işse dosyanın erişim zamanı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Aksi takdirde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touch()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324000" y="1916280"/>
            <a:ext cx="374328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="dnm.txt"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şimdiye ayarlandı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değiştirilemedi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Rectangle 7"/>
          <p:cNvSpPr/>
          <p:nvPr/>
        </p:nvSpPr>
        <p:spPr>
          <a:xfrm>
            <a:off x="4572000" y="1428840"/>
            <a:ext cx="4176720" cy="50317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 Dosyanın değişiklik zamanını bir saat önceye ayarlayalım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/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) -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3600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 Dosyaya erişelim */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_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Hoop, bir şeyler yanlış oldu...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başarıyla erişild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unlin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ı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2308320" y="278136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&lt;h1&gt;Merhaba Dünya!&lt;/h1&gt;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open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URL'yi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eğişken=fopen(dosyaadı, açma türü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Eğer açma dosya adı "http://…."  gibi başlıyorsa URL açılıyor demekti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ma türleri şunlardır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Tür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179280" y="1268280"/>
          <a:ext cx="8820360" cy="4537080"/>
        </p:xfrm>
        <a:graphic>
          <a:graphicData uri="http://schemas.openxmlformats.org/drawingml/2006/table">
            <a:tbl>
              <a:tblPr/>
              <a:tblGrid>
                <a:gridCol w="936720"/>
                <a:gridCol w="7883640"/>
              </a:tblGrid>
              <a:tr h="2174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ma Tür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ıkl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oku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786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sadec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. Dosya mevcut değilse oluşturulmaya çalışılır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47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hem okumak hem d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 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8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yı binary tipte açar yada oluşturu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txt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gif", "wb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http://www.example.com/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ftp://user:password@example.com/somefile.txt", "w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apat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1219320"/>
            <a:ext cx="82296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clos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k bir dosya tanıtıcısını kapat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Dosya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" y="121932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0000"/>
                </a:solidFill>
                <a:latin typeface="Gill Sans MT"/>
              </a:rPr>
              <a:t>fgets(); 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Dosya tanıtıcısından bir satır döndürü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200" spc="-1" strike="noStrike">
                <a:solidFill>
                  <a:srgbClr val="000000"/>
                </a:solidFill>
                <a:latin typeface="Gill Sans MT"/>
              </a:rPr>
              <a:t>fgets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 ( dosya değişkeni [, uzunluk ] 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Uzunluk belirtilmez ise satır sonuna kadar olan bilgi okunu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eof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tanıtıcısı üzerinde konum dosya sonunda mı diye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read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ı satır satır değil de belirli uzunlukta oku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fread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(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değişkeni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uzunluk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Rectangle 2"/>
          <p:cNvSpPr/>
          <p:nvPr/>
        </p:nvSpPr>
        <p:spPr>
          <a:xfrm>
            <a:off x="1979640" y="2997360"/>
            <a:ext cx="540072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arak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yalım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usr/local/birmetin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i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erik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read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21932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getc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içeriğini karakter karakter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Rectangle 2"/>
          <p:cNvSpPr/>
          <p:nvPr/>
        </p:nvSpPr>
        <p:spPr>
          <a:xfrm>
            <a:off x="2281320" y="227664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c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\n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fseek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osya içeriğinin belirli bir bölümden sonrasını okumak amacıyla dosya içersinde istenilen yere konumlandırma yapa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Kullanımı: fseek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( dosya değişkeni, nereye [, nereden ] 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Dosya değişkeni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Bir dosya tanıtıcısı. Genellikle fopen() kullanılarak oluşturul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Yeni konum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onumu dosya sonunun öncesine taşımak için bu değiştirgeyle negatif bir değer,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değiştirgesiyle de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aktarın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Mevcut konumun nasıl yorumlanacağı belirtilir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başlangıcı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CUR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mevcut dosya konumuna göre bayt sayısı olarak belirtildiği varsayılır. Bu miktar pozitif veya negatif olabili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sonu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Eğer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den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belirtilmezse,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öntanımlıdı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see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dosya.txt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r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Biraz veri okuyalım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data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gets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4096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rewind($fp) çağrısı yapmış gibi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dosyanın başına dönelim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seek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0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ya Bilgi Yaz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7200" y="1197000"/>
            <a:ext cx="332280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write(); fpu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Her iki komut dosyaya bilgi yaz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write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dizge [, uzunluk 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Rectangle 2"/>
          <p:cNvSpPr/>
          <p:nvPr/>
        </p:nvSpPr>
        <p:spPr>
          <a:xfrm>
            <a:off x="4284720" y="1125360"/>
            <a:ext cx="4535280" cy="53870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unu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ekleyelim\n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nc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evcut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u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i,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bakalım.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rneğimiz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dosya'y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m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ipin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yoruz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onumlayıc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d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duğund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fwrite()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sin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yecektir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'y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l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alım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mıyor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başarıyl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eğil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2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ilit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loc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a aynı anda bir erişim yapılabilmesini sağlar. Aynı anda dosyaya birden çok kişinin erişebilmesini engel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lock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işlem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işlem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şunlardan biri olabilir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Paylaşımlı bir kilit (okuyucu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S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yrıcalıklı bir kilit (yazıcı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EX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ilidi (paylaşımlı veya ayrıcalıklı) serbest bırakma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U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loc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 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/tmp/lock.txt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w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if 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EX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) {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ayrıcalıklı bir kilit oluşturalım</a:t>
            </a:r>
            <a:br>
              <a:rPr sz="2400"/>
            </a:b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writ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Buraya bir şeyler yazalım\n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U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kilidi serbest bırakalım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 else {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echo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Kilit edinilemedi!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clos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?&gt;</a:t>
            </a:r>
            <a:r>
              <a:rPr b="0" lang="tr-T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Klasör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Aktif Dosyaya Harici Dosya Ek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nclud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elirtilen dosyayı başka bir dosyaya ekler ve içeriğini değerlendiri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4500720" y="3068640"/>
            <a:ext cx="3743280" cy="2288520"/>
          </a:xfrm>
          <a:prstGeom prst="rect">
            <a:avLst/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2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nclude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‘d1.php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 yeşil elma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611280" y="3191040"/>
            <a:ext cx="309708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1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yeşi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elm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2" name="Left Brace 7"/>
          <p:cNvGrpSpPr/>
          <p:nvPr/>
        </p:nvGrpSpPr>
        <p:grpSpPr>
          <a:xfrm>
            <a:off x="3713040" y="3029040"/>
            <a:ext cx="858960" cy="2311200"/>
            <a:chOff x="3713040" y="3029040"/>
            <a:chExt cx="858960" cy="2311200"/>
          </a:xfrm>
        </p:grpSpPr>
        <p:pic>
          <p:nvPicPr>
            <p:cNvPr id="363" name="Left Brace 7" descr=""/>
            <p:cNvPicPr/>
            <p:nvPr/>
          </p:nvPicPr>
          <p:blipFill>
            <a:blip r:embed="rId1"/>
            <a:stretch/>
          </p:blipFill>
          <p:spPr>
            <a:xfrm>
              <a:off x="3713040" y="3029040"/>
              <a:ext cx="858960" cy="23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3780000" y="3086280"/>
              <a:ext cx="255600" cy="21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İçeriğini Liste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open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lasör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ead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lmış bir klasörün içini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2484360" y="2637000"/>
            <a:ext cx="5616720" cy="30776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etc/apache2/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br>
              <a:rPr sz="1400"/>
            </a:b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open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read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adı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-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t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r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typ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r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?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zin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\n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close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7200" y="1219320"/>
            <a:ext cx="822960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mkdir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izin oluştur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ullanımı: mkdir([yol]/dizinadı,izin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İzinler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00: Sahibinden başkası okuyup yaz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44: Sahibi okuyup yazsın diğerleri sadece okusu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77: Herkes okuyup yazabilsi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5:Sahibi herşeyi yapsın, diğerleri sadece okuyup çalıştırabilsi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0: Sahibi herşeyi yapsın, grup üyeleri okuyup çalıştırabilsin, diğerleri hiçbir şey yap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Rectangle 2"/>
          <p:cNvSpPr/>
          <p:nvPr/>
        </p:nvSpPr>
        <p:spPr>
          <a:xfrm>
            <a:off x="2111400" y="4832280"/>
            <a:ext cx="4572000" cy="9169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dizinim/i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c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in/bir/yol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219320"/>
            <a:ext cx="82296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m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izin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rm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ontrolü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_exis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dizinin mevcut olup olmadığına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2411280" y="321300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bir/yol/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va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yok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fi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1" name="Rectangle 5"/>
          <p:cNvSpPr/>
          <p:nvPr/>
        </p:nvSpPr>
        <p:spPr>
          <a:xfrm>
            <a:off x="2411280" y="3429000"/>
            <a:ext cx="3816360" cy="11912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fil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dı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klasö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5" name="Rectangle 5"/>
          <p:cNvSpPr/>
          <p:nvPr/>
        </p:nvSpPr>
        <p:spPr>
          <a:xfrm>
            <a:off x="2662200" y="3284640"/>
            <a:ext cx="3151080" cy="17398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dir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dü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59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read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mevcut ve okun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read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wri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yazıl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execu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çalıştırılabilir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2286000" y="2997360"/>
            <a:ext cx="4572000" cy="31114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home/vincent/somefile.sh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execu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19:47:52Z</dcterms:created>
  <dc:creator>Emre&amp;Ceyda</dc:creator>
  <dc:description/>
  <dc:language>en-US</dc:language>
  <cp:lastModifiedBy>Vento</cp:lastModifiedBy>
  <dcterms:modified xsi:type="dcterms:W3CDTF">2013-11-26T12:38:14Z</dcterms:modified>
  <cp:revision>57</cp:revision>
  <dc:subject/>
  <dc:title>PowerPoint Presentation</dc:title>
</cp:coreProperties>
</file>