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304D-2454-44A6-A9AA-3FB35E107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6351-E9FB-4EDE-B50E-D5ECF6320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53DD-C8EF-44D4-AD7E-95C9DC904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6753-5254-4AA6-9AA8-DF527540A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B9F45-DA8E-4F3F-AA40-031F69C4C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5C2F6-0E78-4821-B7F5-52A823DD8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85370-DAEA-4FEB-A73A-7B8521631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939C3-F538-41EE-ADF1-EB77361E2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3C12B-4824-4DEB-B004-AEB4CBD58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639D8-A75A-4987-AECB-0129B7DE8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D7D90-1CB3-4801-96A8-BD0D28635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B45C-FADF-4DE3-898A-25B6CF12E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CAE27-C46A-4469-8042-6C4FE1C14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4F901-6B98-47B8-BBDB-162748BB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736D8-85A8-403B-9F79-AF093D625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CFC09-C784-4A85-8943-91208D31A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EA0CC-1566-4024-A899-77EAD493C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E137D-5E3F-48DB-82CF-EF1871398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FE5B9-E3E5-4350-8D16-9FD17C4DE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4B6FD-5DCB-4026-A72D-F78A985C4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D1C94-7ED6-4D2E-BD9D-C15C79EF0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0149E-0B5B-43A1-9378-8DE3C27F9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669C-6D3F-4664-A454-08042BE8B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6CD21-D7FD-4779-BE14-845246270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BEF95-65B1-461B-89B3-26FB33C88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ECF6C-1FDC-413D-B8BA-CF6D71BD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57CFC-D28C-47CA-898E-4D04A2342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649C5-D3F1-4DE3-82C3-409255C53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B76B6-08A6-4B6E-A781-29F9605FD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FCE13-D5BA-48C8-9606-B80AF1D9C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9F27F-7C08-4617-9B15-1709E8FFC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8E96C-88D5-47BA-A6E1-F8D0C7257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AEBFC-ECB6-41D0-9317-52C055F54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7125-90C7-41F2-AE01-F0D14F8F8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85045-5A22-4DC9-BB94-918CDC443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EBDDE-E0FF-42C9-B94A-CD7C1AD5C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2216F-3D9F-4430-BA8B-52BB0563A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D2263-761B-4EBE-A50C-B092E25C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766BC-BB03-4D2E-B2C9-9104A431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3DE63-9643-4B24-AE42-D065CF0BB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29F8F-76FC-45D0-96AF-7F172EDA3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9CD5F-0B01-44A6-81A7-1C71A6CF1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DC72C-4B33-4312-B1FC-F4206669B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E36F-C53A-4504-A3DA-17913EADC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8840-8C6F-4C7B-9BF6-2D39F154A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2717-F097-47B0-8186-411C2910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3BA5-4C43-41BC-A5B0-AE35081E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3850-7CB3-42ED-95F1-C87F85D1A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7214E-7A9A-46AC-9EDA-1E141DB467CC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6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9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A2CA3-60BE-4412-A387-574E67F8A9E3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6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7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0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1A762-8F63-43B4-A752-A94746CE97B6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44961-4CC9-47B3-926E-9D4BD559A547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Tarih ve Saat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tematiksel 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Karakter Kümesi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il Gönderm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izinin Fonksiyona Gönderilmesi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unction liste_yaz($gelendiz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or ($i=0;$i&lt;count($gelendizi);$i++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gelendizi[$i]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ndizi=array(6,8,10,7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iste_yaz($gelendizi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arih ve Saat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t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arih/zaman bilgisi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bugun=getdate(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 $bugun[mday]."-".$bugun[mon]."-".$bugun[year]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Bugünkü tarihi yaz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 fonksiyonunda kullanılan parametre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866960" y="1909800"/>
          <a:ext cx="5410080" cy="4441680"/>
        </p:xfrm>
        <a:graphic>
          <a:graphicData uri="http://schemas.openxmlformats.org/drawingml/2006/table">
            <a:tbl>
              <a:tblPr/>
              <a:tblGrid>
                <a:gridCol w="1803240"/>
                <a:gridCol w="1803600"/>
                <a:gridCol w="1803240"/>
              </a:tblGrid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second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ler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69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inute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akikalar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hour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ler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günlerin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lerin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Pazar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Cumartesi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300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1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ear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: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ünü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eek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ünün metinse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un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tur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th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metinsel tam gösterimi, Ocak ya da Mart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Yerel tarihi/saati biçimlend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973160" y="2509920"/>
          <a:ext cx="5767560" cy="4091040"/>
        </p:xfrm>
        <a:graphic>
          <a:graphicData uri="http://schemas.openxmlformats.org/drawingml/2006/table">
            <a:tbl>
              <a:tblPr/>
              <a:tblGrid>
                <a:gridCol w="1922400"/>
                <a:gridCol w="1922760"/>
                <a:gridCol w="1922400"/>
              </a:tblGrid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içim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karakte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çıklam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 sonuç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ü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lu iki haneli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üç harfli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z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suz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küçük 'L' harfi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tam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ar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martesi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286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ISO-8601 standardında sayısal gösterimi (PHP 5.1.0'da eklenmişti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(Pazartesi için)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(Pazar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 için 2 karakterli İngilizce sıralama ekle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h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uyumlu çalışmaktadır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sayısa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Pazar için) </a:t>
                      </a: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(Cumartesi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4632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leri (0'dan başla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224000" y="1774800"/>
          <a:ext cx="6696000" cy="4668840"/>
        </p:xfrm>
        <a:graphic>
          <a:graphicData uri="http://schemas.openxmlformats.org/drawingml/2006/table">
            <a:tbl>
              <a:tblPr/>
              <a:tblGrid>
                <a:gridCol w="2232000"/>
                <a:gridCol w="2232000"/>
                <a:gridCol w="2232000"/>
              </a:tblGrid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572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tına göre yılın hafta numarası, hafta başlangıcı Pazartesi'di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Yılın 42'inci haftas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tam metinsel gösterimi, Ocak ya da Mart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lu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üç karakterli, metinsel kısa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suz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elirtilen ayın gün sayı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8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57200" y="2117880"/>
          <a:ext cx="8229600" cy="3749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rtık yıl olduğun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ğer artık yıls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değilse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012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dı yıl numarası. ISO hafta numaralarının (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) ait olduğu yılın gösterilmesi dışınd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aynı değere sahiptir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, tam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iki haneli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790640" y="1935000"/>
          <a:ext cx="5562720" cy="4395960"/>
        </p:xfrm>
        <a:graphic>
          <a:graphicData uri="http://schemas.openxmlformats.org/drawingml/2006/table">
            <a:tbl>
              <a:tblPr/>
              <a:tblGrid>
                <a:gridCol w="1854360"/>
                <a:gridCol w="1854000"/>
                <a:gridCol w="1854360"/>
              </a:tblGrid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üç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üy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watch İnternet saa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0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dakika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saniye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ikrosaniye (PHP 5.2.2 sürümüyle eklenmişti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543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166760" y="1922400"/>
          <a:ext cx="6810480" cy="4416480"/>
        </p:xfrm>
        <a:graphic>
          <a:graphicData uri="http://schemas.openxmlformats.org/drawingml/2006/table">
            <a:tbl>
              <a:tblPr/>
              <a:tblGrid>
                <a:gridCol w="2270160"/>
                <a:gridCol w="2270160"/>
                <a:gridCol w="2270160"/>
              </a:tblGrid>
              <a:tr h="304200"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belirtec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T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M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urope/Istanbu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büyük 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az saati uygulaması var mı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Var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yok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6068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ve dakika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: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kısaltma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E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716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 cinsinden saat farkı. UTC'nin batısı daima negatif, doğusu ise daima pozitif değerlidir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432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4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print date("d-m-Y"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0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20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1 gibi sistem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alibri"/>
              </a:rPr>
              <a:t>Fonksiyonlar bizi defalarca kod yazmaktan kurtaran, daha modüler iş yaparak zamandan ve emekten tasarruf sağlayan yapılardır.  PHP’de fonksiyonların yazım şekli C,C++,Java, JavaScript ile hemen hemen aynıdır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DEFF5-A202-47C2-AC7B-BF65EA0ADE98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nucunun o anki zaman bilgisini saniye olarak döndürür. (1 Ocak 1970 den başlayarak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cekHafta = time() + (7 * 24 * 60 * 6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                  // 7 gün; 24 saat; 60 dakida; 60 saniye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Şimdi:         '. date('d-m-Y'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Gelecek Hafta: '. date('d-m-Y', $gelecekHafta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 fonksiyonu, kendisine verilen verilen tarih ile 1 Ocak 1970 arasındaki farkı hesap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Örnek olarak 1 Ocak 1970 ile 22 Kasım saat 08:00 arasındaki farkı şu şekilde bir sayı ile geri döndürür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600" spc="-1" strike="noStrike">
                <a:solidFill>
                  <a:srgbClr val="000000"/>
                </a:solidFill>
                <a:latin typeface="Constantia"/>
              </a:rPr>
              <a:t>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urda görüldüğü üzere 1 Ocak 1970den bu yana ne kadar saniye geçtiğidir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nel kullanımı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at = 08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akika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niye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y = 11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un = 22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yil = 2008; 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onuc = mktime($saat, $dakika, $saniye, $ay, $gun, $yil);  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onuc;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//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2, 32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3, 1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19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Jan-01-1998" 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tematiksel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loor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ceil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oun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qr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x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in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og10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abs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 fonksiyonu matematikdeki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mutlak değer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in işini gö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 = abs(-4.2); // $abs = 4.2; (double/float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2 = abs(5);   // $abs2 = 5; (integer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2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loo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küç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4.3);   // 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9.999); // 9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-3.14); // -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ceil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büy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4.3);    // 5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9.999);  // 10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-3.14);  // -3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ound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Ondalık sayıların yuvarlanması için kullanılır. </a:t>
            </a: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Kullanım Şekli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round(yuvarlanacak sayı,noktadan sonra kaç basamak kullanılacak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4);         // 3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5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, 0);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.95583, 2);  // 1.9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241757, -3); // 124200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45, 2);    // 5.0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55, 2);    // 5.0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ow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üstel değerlerini bulmak için kullanı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 Şekl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sayı,kuvvet değer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2, 8); // 25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2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0, 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5.5); //  NAN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(tanımsız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 Tanımla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//Parametresiz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//Parametrel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parametre1,parametre2,…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donus_degeri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br>
              <a:rPr sz="2000"/>
            </a:br>
            <a:r>
              <a:rPr b="1" lang="tr-T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9E74A-031B-4112-A0A5-62C7C6743C08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qrt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karekökünü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9); // 3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10); // 3.16227766 ..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x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Verilen değerler içinde en büyüğünü bulu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1, 3, 5, 6, 7);  // 7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array(2, 4, 5)); // 5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0, 'hello');     // 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hello', 0);     // hello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42', 3); // '42'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//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rklı arraylarda uzun olanı bulu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2, 2), array(1, 1, 1, 1)); // array(1, 1, 1, 1)</a:t>
            </a:r>
            <a:br>
              <a:rPr sz="2000"/>
            </a:b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ynı uzunluktaki arraylarde elemanlarına bakılır. Örnek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 2 == 2,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ka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4 &lt; 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4, 8), array(2, 5, 7)); // array(2, 5, 7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i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Verilen değerler içinde en küçük olanı bul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2, 3, 1, 6, 7);  // 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array(2, 4, 5)); // 2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og10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0 tabanına göre logaritma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log10(100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onuç: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Karakter Kümesi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934640"/>
            <a:ext cx="3467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xplod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number_forma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pa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4572000" y="1989000"/>
            <a:ext cx="45720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eat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cm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len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low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upp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wordwra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explod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ir ayraca göre bölüp bir dizi haline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pizza  = "dilim1 dilim2 dilim3 dilim4 dilim5 dilim6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ilimler = explode(" ", $pizza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0]; // dilim1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1]; // dilim2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934640"/>
            <a:ext cx="4475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başındaki boşlukları (veya diğer karakterleri) budar. 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Rectangle 1"/>
          <p:cNvSpPr/>
          <p:nvPr/>
        </p:nvSpPr>
        <p:spPr>
          <a:xfrm>
            <a:off x="5106960" y="2708280"/>
            <a:ext cx="3816360" cy="256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   = "\t\tBir kaç kelam :) ...  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print "\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, " \t."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sonundaki boşlukları (veya diğer karakterleri)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Rectangle 1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Bir kaç kelam :) ...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r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1934640"/>
            <a:ext cx="80024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Dizgenin başındaki ve sonundaki boşlukları (veya diğer karakterleri) budar. Aşağıdaki karakterleri budayacaktı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   Bir kaç kelam :) ...   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number_format(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yıyı binlik bölümlere ayır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number_forma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yı , ondalık_hane, ondalık_ayracı, binlik_ayracı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yi = 1234.56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trformat = number_format($sayi, 2, ',', '.'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trforma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 1.234,56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(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yaz fonksiyonu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2($ad,$soyad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$ad $soyad”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  <a:ea typeface="Courier New"/>
              </a:rPr>
              <a:t>Yukarıda ilk yaz fonksiyonu parametre almamıştır, ikincisi ise ad ve soyad parametrelerini almıştı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8 Metin kutusu"/>
          <p:cNvSpPr/>
          <p:nvPr/>
        </p:nvSpPr>
        <p:spPr>
          <a:xfrm>
            <a:off x="4929120" y="221472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isim=“Ali”; $soyisim=“Ak”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2 ($isim, $soyisim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i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e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elli bir uzunlukta diğer dizgeyle doldur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girdi , dolgulu_uzunluk [, dolgu_dizgesi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" "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[, dolgu_türü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]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: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eçimlik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olarak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ğ),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LEF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ol) veya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BOTH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abiti (her iki taraf) belirtilebilir.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belirtilmezse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değeri öntanımlıd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input = "Ayra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);                                         // "Ayran     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-=", STR_PAD_LEFT);  // "-=-=-Ayran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_", STR_PAD_BOTH);   // "__Ayran__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6 , "___");                               // "Ayran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eat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yinel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_repeat("-=", 1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Çıktıs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-=-=-=-=-=-=-=-=-=-=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lace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 fonksiyonu istediğimiz karakterleri farklı bir karaktere dönüştürmemizi sağ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bul, değiştir, değişke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611280" y="4581360"/>
          <a:ext cx="8229600" cy="10972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097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&lt;?ph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$veri = "İstanbul güzel bir şehir?"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cho str_replace("güzel","pahalı",$veri)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?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cm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İkili olarak dizge karşılaştırması yap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1="Ali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2="Ahmet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f(strcmp($isim1,$isim2)==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 isim aynıdır";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if(strcmp($isim1,$isim2)&gt;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Birinci isim büyük"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nci isim büyük"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le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izge uzunluğunu döndü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abcdef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6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 ab cd 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7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lower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küç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low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: mini mini bir kuş uçmuştu pencereme konmuş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upp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büy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upp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sı: MINI MINI BIR KUS UÇMUSTU PENCEREME KONMUS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siz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yaz(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fonksiyon”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l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esaj($deger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deger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8 Metin kutusu"/>
          <p:cNvSpPr/>
          <p:nvPr/>
        </p:nvSpPr>
        <p:spPr>
          <a:xfrm>
            <a:off x="5076720" y="292428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deger=“merhaba fonksiyon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esaj($deger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Dizgenin bir kısmını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substr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dizge , başlangıç [, uzunluk 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);     // bcdef döndürür.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, 3);  // bcd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1);    // "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2);    // "e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3, 1); // "d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_replac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belli bir bölümünü değiş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ubstr_replace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dizge, yenisi , başlangıç [, uzunluk 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$metin = "En Faydalı Türkçe Kaynak"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substr_replace($metin, 'Yararlı', 3,7)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En Yararlı Türkçe Kaynak 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wordwra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Bir dizgeyi istenilen yerden alt satıra geçiri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wordwrap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 dizge [, genişlik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satırsonu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kes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= false/true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]]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metin = "Dağ başını duman almış, gümüş dere durmaz akar."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yenisi = wordwrap($metin, 4, "&lt;br /&gt;")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$yenisi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Line Callout 1 3"/>
          <p:cNvSpPr/>
          <p:nvPr/>
        </p:nvSpPr>
        <p:spPr>
          <a:xfrm>
            <a:off x="3635280" y="5273640"/>
            <a:ext cx="4608720" cy="892080"/>
          </a:xfrm>
          <a:prstGeom prst="borderCallout1">
            <a:avLst>
              <a:gd name="adj1" fmla="val 18750"/>
              <a:gd name="adj2" fmla="val -8333"/>
              <a:gd name="adj3" fmla="val -10351"/>
              <a:gd name="adj4" fmla="val -165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wordwrap($metin, 4, "&lt;br /&gt;",</a:t>
            </a:r>
            <a:r>
              <a:rPr b="0" lang="tr-TR" sz="1800" spc="-1" strike="noStrike">
                <a:solidFill>
                  <a:srgbClr val="ff0000"/>
                </a:solidFill>
                <a:latin typeface="Constantia"/>
              </a:rPr>
              <a:t>true </a:t>
            </a: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Yukarıdaki gibi sona true eklersek kelimelere dikkate almadan böl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Constantia"/>
              </a:rPr>
              <a:t>Mail() Fonksiyonu: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HP'de Mail göndermemize yarayan fonksiyondur. Kullanım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 ( "mailadresi" , "mailkonusu" , "mailiçeriği" ,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Mailbaşlık" )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adresi kısmı;mail yollanacak Ki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konusu;Mailin konusu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içeriği;Mailin içeri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başlık;Mail başlığı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mailin php ile yollanmas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dres = "deneme@hotmail.com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konu = "Mail konus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mesaj = "PHP Mail() Fonksiyon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("$adres","$konu","$mesaj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"mail gönderildi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00040" y="17856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Calibri"/>
                <a:ea typeface="Courier New"/>
              </a:rPr>
              <a:t>//Aşağıdaki fonksiyon verilen sayı aralığını toplar.</a:t>
            </a:r>
            <a:br>
              <a:rPr sz="1900"/>
            </a:br>
            <a:r>
              <a:rPr b="0" lang="tr-TR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sayitopla($ilk,$son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$ilk; $i&lt;=$son ;$i++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$toplam + $i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toplam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=100; $num2=50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= sayitopla($num1, $num2 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um1-$num2 arası toplam =$sonuc"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İşlem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topla($a, $b) {  return ($a +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carp($a, $b) { return ($a*$b); 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od_al($a, $b) { return ($a %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 = 8; $num2 = 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toplam = topla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carpim = carp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mod =    mod_al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Toplam sonucu: $sonuctopla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Çarpim sonucu: $sonuccarpi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Mod sonucu: $sonucmod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– Harf Notu Bul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28760" y="15714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hesapla($not1, $not2, $not3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($not1 + $not2 + $not3)/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onuc&gt;84 &amp;&amp; $sonuc&lt;=100)  $harf='A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70 &amp;&amp; $sonuc&lt;=84)  $harf='B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55 &amp;&amp; $sonuc&lt;=69)  $harf='C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45 &amp;&amp; $sonuc&lt;=54)  $harf='D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0 &amp;&amp; $sonuc&lt;=44)  $harf='E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($harf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1=90; $n2=80; $n3=100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not = hesapla($n1, $n2, $n3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1-$n2-$n3 Harf notu =$sonucnot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Faktöriye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aktoriyel($sayi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ayi==0) return(1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fakt=1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1; $i&lt;=$sayi ; $i++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$fakt= $fakt * $i;  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fakt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 =6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faktoriyel ($num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sonuc;  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1:39:50Z</dcterms:created>
  <dc:creator>Emre&amp;Ceyda</dc:creator>
  <dc:description/>
  <dc:language>en-US</dc:language>
  <cp:lastModifiedBy>Vento</cp:lastModifiedBy>
  <dcterms:modified xsi:type="dcterms:W3CDTF">2013-11-26T12:36:55Z</dcterms:modified>
  <cp:revision>250</cp:revision>
  <dc:subject/>
  <dc:title>sart.php</dc:title>
</cp:coreProperties>
</file>