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F9E0-ABD1-4106-841F-844D279C7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4224-B0CD-49F5-89F7-D41C958CB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EE20-13F6-4106-A733-5A2346684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6CB2-F4C3-4A5D-A5A9-EEC59CECB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90EBD-7FA9-4316-85DC-3AF9FF71D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CDF83-8BFC-4BAC-A7BA-E46F0835C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03695-3C3A-4BB2-9B51-551A7C80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5C92B-AFD1-4AD9-BB09-5B8A1429D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8A82D-2DB6-414C-B617-44AC0A5B8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865B1-76EF-4F31-AF71-BFC4A431A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74ED0-53C1-4414-81D0-0535A5E5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C48E-6B04-481D-8CD6-3881F3459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4ADB1-840F-43E4-BA09-1D5B4031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77A02-162F-4EC4-9A59-6A94069B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90D30-C08A-4BC7-87DE-EF0660044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83331-6D72-4CD4-B3D2-4E0D2C7EF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D090A-37B4-4893-84D8-D323376AD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0C89E-DFB6-4A14-9E8C-D8B379CC8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244E6-EFDE-4FD3-9B96-B872CE4BF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CB47E-A8E0-4C98-85B7-CA59FC92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6D764-3C42-4CD3-8F83-049788186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D2F0B-E092-49C9-A3C3-75FAAC92A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81A4-F8AC-46AC-87EA-60F4C2A99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68F33-A7C2-479A-A891-F3732CD84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F76B5-269C-4FD1-A9AA-A39F699F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E2BB6-242B-489A-A31E-0E6A4850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8114F-E806-4080-9276-36D70998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C5E46-BA17-4589-8F66-61B702D83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A4C9D-0BB5-4442-98DD-E53650892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6194A-6DC6-4460-ADB8-77174B24C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5C570-38AF-46E3-92FC-0BA14209C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1E259-5A71-4715-B65A-73AFF5A99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11D93-FD04-4EFD-AD67-D9016F284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CFA2-A700-40DD-9ABB-8185BA1AE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BD7CA-4EF9-4017-889E-F36983EDF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E5CF3-3BD8-4BE9-BE31-1306654ED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63F39-CDBF-41D8-BD4F-B737FEC64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2D283-BC45-4CC1-BC61-0B9C3F5A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712CF-4D52-493C-BFEE-BF38FCA8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9C9D2-425F-4F6B-9719-64A72925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C1447-C8C9-4F18-B8C3-7DD25C75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7F68C-E170-4A8D-9315-D13370D68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9C940-AEC7-4AE6-AD9B-C3AD1D16A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DDAA-2EF6-4B62-A69F-47C073C9E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2DA1-9FBB-4472-AB3F-BA63745C4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7181-BC79-409B-B6AF-62C559DA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8F3B-1A82-4302-9090-CF279354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5CC4-FA84-4ED1-B617-777C2E01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36311-738D-4858-B11C-A792F0DC31DF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0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0B445-0394-4C55-8CBB-0782593C3FEE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6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1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CD06E-2841-4496-94B1-62774A08A856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8 Tek Köşesi Kesik ve Yuvarlatılmış Dikdörtgen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11 Dik Üçgen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9 Serbest Form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10 Serbest Form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15144-F9AF-4ED5-8CB1-9839B31C0107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1412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d)Tablo Oluşturma </a:t>
            </a:r>
            <a:br>
              <a:rPr sz="49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7928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TABL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Bu komut kullanılmadan önce tablonun oluşturulacağı veritabanı seçilmelid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Table &lt;tablo adı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_adı veri_türü [varsayılan][kısıtlama]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[tablo kısıtlaması]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Adı”tabloya verilecek isim(örnek:ogrenc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 Adı” tabloda yer alacak alanların adı(örnek:ogr_no,adi,soyad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eri Türü”girilecek veri türü (sayı,metin,tarih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arsayılan”değer girilmezse başlangıçta atanacak değ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4000" y="981000"/>
            <a:ext cx="822960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ısıtlama”boş olmaması,sadece E veya K girilmesi kısıtlama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 kısıtlaması”her kaydın belirli alanlara göre kısıtlanması(kayıtların tek olmasını sağlama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ezun olan öğrenciler için mezun bilgilerinin tutulacağı bir tablo oluşturalı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Bu tablo için adi,soyadi ve ogrno alan adları kullanılacakt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REATE TABLE ;kayit 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y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ogrno smallint(5)unsigned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straint ogrno_pk primary key(ogrno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e)Tablo Silme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40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ifadesiyle istenilen tablo siline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tablo_ad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:Müşteri tablosunu silmek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muster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7030a0"/>
                </a:solidFill>
                <a:latin typeface="Calibri"/>
              </a:rPr>
              <a:t>f)Tabloya Kayıt Ekleme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a yeni kayıt eklemek için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INSERT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TABLO (alan1,alan2,…….,alan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(deger1,deger2,………..,deger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mutla okul veritabanında bulunan öğrenci tablosuna yeni kayıt eklenmiş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ogrenci(no,ad,soyad,vel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 (125,”Melda”,”Selda”,”Eda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3964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g)Tablodan Kayıt Al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da istenilen şartlara uyan bilgileri 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ELECT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SELECT komutunun kullanımının birçok farklı seçeneği vard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d belirli bir şarta bağlı olmaksızın istenilen verileri ogrenci tablosundan oku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-&gt;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tablosundaki tüm kayıtları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-&gt;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 tablosundaki verilerin sadece ad ve no bilgilerini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250920" y="980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elirli bir şarta uyan verilerin okunması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paremetresi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Numarası 15 olan öğrencilerin  tüm bilgilerinin görüntülenmesi için aşağıdaki ifade yazı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*F ROM ogrenci WHERE no=15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ınav notundan 50-70 arası not ala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not_1 BETWEEN 50-7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nın içinde ‘M’geçe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ad LIKE ‘%M%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61128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le gelen kayıtların sıralamasını değiştir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ile birlikte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rsa artan sıralama,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lırsa azalan sıralama yapar.Herhangi bir ifade yazılmazsa artan sıralama yap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”M” ile Başlayan öğrencilerin bilgilerini soyadına göre artan sıralamada görüntülenmesi için aşağıdaki ifade yazılır.(a…..z sıralam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 WHERE adi=‘M%’ ORDER BY soya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h)Kayıt Sil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79280" y="184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dan kayıt sil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LET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FROM tablo_adi WHERE koş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SQL komutu ogrenci tablosunda bolum bilgisi”bilişim”olan tüm kayıtları sil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*FROM ogrenci WHERE bolum=‘bilişim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i)Kayıt Güncelle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4000" y="1699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da bulunan kayıtlar üzerinde değişiklik yapmak istendiğinde UPDATE ifadesi kullanılır.Çoğunlukla where ifadesi ile kullanılır.Where ifadesi kullanılmaz ise tablodaki tüm kayıtlar güncellen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tablo_adi SET alan1=değer1,alan2=değer2,……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WHERE Koşul cümlesi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Öğrenci numarası 35 olan öğrencinin doğum tarihini 05/02/1991 olarak değiştirecek SQL komutu aşağıdaki gib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ogrenci SET dogum_tarihi=‘1991/05/02’ WHERE no=3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Fonksiyon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79280" y="1341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) Standart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VG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aritmetik ortalama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SUM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toplamını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IN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küç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AX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büy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OUN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kayıt sayı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ROUN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değerinin virgülden sonraki kısmını yuvar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00000"/>
                </a:solidFill>
                <a:latin typeface="Calibri"/>
              </a:rPr>
              <a:t>MYSQL Veritabanı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Veritabanı,içerisinde çeşitli verileri bulunduran birbirleriyle ilişkili tablolardan oluşmaktadır. MySQL veritabanı da SQL ve Access gibi farklı tablolardan ve bu tablo içerisindeki alanlardan meydana ge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MySQL veritabanında sayısal bilgiler INT,string bilgiler VARCHAR türünde tanım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5092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b)Karşılaştırma Operatörleri ve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tir “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1 =0; SONUÇ=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‘0’ =0; 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 Değildir”&lt;&gt;” ,”!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’.O1’&lt;&gt; ‘0.01’;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üçüktür veya Küçük eşittir “&lt;“ , “&l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lt;2; SONUÇ=1 </a:t>
            </a:r>
            <a:r>
              <a:rPr b="0" lang="tr-TR" sz="1800" spc="-1" strike="noStrike">
                <a:solidFill>
                  <a:srgbClr val="ff0000"/>
                </a:solidFill>
                <a:latin typeface="Calibri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Büyüktür  veya büyük eşittir “&gt;” , “&g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gt;=2;SONUÇ 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GREATEST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en büy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GREATEST (2,0) ;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LEAST 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 en küç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LEAST  (2,0) ;               sonuç 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24000" y="1125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)Matematiksel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BS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mutla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BS(2);         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O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iki değerin bölümünden kalanını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MOD(234,10);     Sonuç=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QR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karekökünü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QRT (4) ;              Sonuç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521560" cy="19083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030a0"/>
                </a:solidFill>
                <a:latin typeface="Calibri"/>
              </a:rPr>
              <a:t>MySQL Sunucusuna Bağlantı </a:t>
            </a:r>
            <a:br>
              <a:rPr sz="20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 dilinde veritabanı ile işlem yapılacağı zaman ilk olarak web sunucusu aracılığıyla veritabanı dosyası ile bağlantı kuru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bir değişkene atanır ve MySQL sunucu kurulumunda şifre konulmamışsa şifre parametresi boş bırakılmalı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mysql_connect(sunucu,kullanıcı_Adi,sifre;yeni_baglant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”bağlantı kurulacak MySQL sunucusunun ism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localhost sunucusunda root kullanıcı adı ve root şifresiyle bağlantı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connect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localhost” ,”root” ,”root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Yerel sunucuda sunucu localhost ismini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Veritabanı Seçim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24000" y="1557360"/>
            <a:ext cx="82296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ile bağlantı kurulduktan sonra kullanılacak veritabanının seçilmesi gerekir.Veritabanı seçim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select_db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 başarı ile çalışırsa TRUE, çalışmazsa FALSE değeri döndür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select_db(“veritabanı”,”bağlantı_değişkeni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veritabanı”)=Bağlantı kurulacak veritabanı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”bağlantı_değişkeni”)= mysql_connect fonksiyonunun atandığı bağlantı değişken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PHP ile MySQL Veritabanı  Oluşturma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stemci yazılımı veya mysqladmin kullanmadan MySQL veritabanı oluşturmak için mysql_create_db() fonksiyonu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sunucu üzerinde personel isminde bir veritabanı oluşturmak için aşağıdaki ifade kullanıla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&lt;?PH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$bg=@mysql_connect(“localhost”,”root”,”mysql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MySQL e Bağlanılamıyor!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(“CREATE DATABASE personel”,$b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Veritabanı oluşturulamadı”.mysql_error(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SQL İfadelerinin Kullanımı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400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kurulan veritabanı üzerine SQL ifadelerini kullan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nuc=mysql_query(“sql_ifadesi”,”bağlantı_değişkeni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ql_ifadesi=Çalıştırılmak istenen SQL ifades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_değişkeni=mysql_connect fonksiyonunun atandığı bağlantı değişkenidi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Sunucu İşlem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9528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üzerinde çalıştırılan UPDATE,INSERT ve DELETE işlemleri geriye değer döndürmez.Sadece SELECT  ifadelerinde geriye sonuç döner.Bu sonuçlar üzerinde işlem yapmak için aşağıdaki fonksiyonlar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a) mysql_num_field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u komut SQL ifadesinde seçilen alanların sayısını bul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b) mysql_num_rows 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orgusunun çalışması sonucu elde edilen kayıt sayısını bulmak için kullanılır.INSERT,UPDATE veya DELETE gibi tablo üzerinde değişiklik yapan SQL ifadeleri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affected_rows()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c)mysql_fetch_row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fadesi sonucu dönen kayıtları almak için kullanılır.Sorgudan dönen alanlar mysql_fetch_row()fonksiyonun atandığı değişkene dizi şeklinde atanacaktır.Daha fazla döndürecek kayıt kalmadığında “false” değeri dö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528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result(“sorgu_değişkeni”,kayit”,”alan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rgu sonucu dönen değerlerden istenilen kaydın alan bilgisi alınabili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ayıt” parametresi sayısal bir değerdir.”alan” parametresi sayısal olabileceği gibi alan ismide olabilir.Örneğin,sorgudan dönen değerlerden 5.satırdaki kaydın ad bilgisi için mysql_result($sorgu,5,”ad”)veya mysql_result($sorgu,5,5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error() ve mysql_errno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fadelerinin çalışması esnasında oluşan hata mesajlarını yazılı olarak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or()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hata kodunu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no 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ları kullanılır.Parametre olarak bağlantı değişkeninin adını a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Sunucu Bağlantısını Kapatma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a bağlantı sayısı sınırlı olabileceği için veritabanıyla ilgili işlemler bittiğinde bağlantının kapatılması gerekir .Aksi Takdirde diğer kullanıcılar bağlanmak istediğinde sorun oluşabilir.Bağşantı kapatmak için mysql_close fonksiyonu kullanılı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baglanti_degisken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 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ullanım $baglanti değişkenine atanan  MySQL bağlantısını kapatmakta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$connec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4617b"/>
                </a:solidFill>
                <a:latin typeface="Calibri"/>
              </a:rPr>
              <a:t>MySQL Kurulumu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kurulumunun en son versiyonu www.mysql.com  adresinden indirelebilir.Kurulum dosyasını çalıştırdıktan sonra ilk ekranda”Next”butonuna tıklayarak devam edilir.Kurulum tipi belirlenip “Install “butonuna basılır.Next butonlarıyla ilerlenip kurulum tamamlan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sunucunun veritabanına  erişimi için yapılandırılması gerekir. Standart ve detaylı olmak üzere iki şekilde yapılır. Yapılandırma işlemleri “Execute”butonuna basılarak aktif hale getiril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Finish”butonuna basılarak aktif hale getirili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PHPMyAdmin Kurulumu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MyAdmin,MySQL veri tabanına kolayca erişimi sağlayarak veri tabanı işlemlerinin görsel yolla yapılabilmesi hazırlanmış arayüzd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uruluma gerek yoktur.Sıkıştırılmış klasör içinde bulunan dosyaları açarak web sunucusu klasörüne(apache web sunucusu için htdocs klasörü)kaydetmek yeterl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89ca3"/>
                </a:solidFill>
                <a:latin typeface="Calibri"/>
              </a:rPr>
              <a:t>KURULUM AŞAMALARI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Gerekli dosyalar www.phpmyadmin.net adresinden indirileb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İndirilen dosya açılarak htdocs klasörü altına kopya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yapılandırılması için aşağıdaki adımlar uygulanı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klasörü içinde bulunan config.inc dosyasını açılarak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;satırı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http ://localhost/phpmyadmin/’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olarak değiştir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i][User’]=‘root’;satırında kullanıcı adının root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][‘password’]=“;root kullanıcı adı ile bağlantı yapılıyorsa şifre kısmının boş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fig.inc dosyası kayded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İnternet tarayıcının adres çubuğuna http://localhost/phpmyadmin/ yazdığınızda hata ile karşılaşılmıyorsa phpMyAdmin yazılımı başarıyla kurulmuş dem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MySQL Yazılım Kural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50920" y="1988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a) Veritabanı Oluştur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komutu veril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adında bir veritabanı oluşturulmuştu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ogrenc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6836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b) Veritabanı Sil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silme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DROP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Komut çalıştırıldığında silinen veritabanın içerisindeki tüm tablolar ve kayıtlarda silinmiş olacaktır.Silinen kayıtlar geri getirilemez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veritabanı silinecekt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oku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c)MySQL Veri Tür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8360" y="1413000"/>
          <a:ext cx="8229600" cy="5121000"/>
        </p:xfrm>
        <a:graphic>
          <a:graphicData uri="http://schemas.openxmlformats.org/drawingml/2006/table">
            <a:tbl>
              <a:tblPr/>
              <a:tblGrid>
                <a:gridCol w="1871640"/>
                <a:gridCol w="635796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i Tür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çıklam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NY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8 ile 127 arasında tamsayı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2768 ile 32768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388608 ile 838860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47483648 ile -214748364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223372036854775808-9223372036854775807 arasın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A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gülden sonra 4 yada 8 haneli ondalık 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TAMP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andaki sistem zamanını tut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:MM:SS,HHMMSS,HHMM,HH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YYY-MM-DD HH:MM:SS 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 sayısını geçmemek şartıyla değişen boyutta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sinlikle n sayısı kadar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6:07:00Z</dcterms:created>
  <dc:creator>pc</dc:creator>
  <dc:description/>
  <dc:language>en-US</dc:language>
  <cp:lastModifiedBy>Vento</cp:lastModifiedBy>
  <dcterms:modified xsi:type="dcterms:W3CDTF">2013-11-26T12:38:50Z</dcterms:modified>
  <cp:revision>33</cp:revision>
  <dc:subject/>
  <dc:title>PHP ve MYSQL</dc:title>
</cp:coreProperties>
</file>