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C9ED-72DD-469F-B570-A7135E68A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CC76-E7F1-4DFA-A7C2-0C1FB0EAA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6E61-4211-435A-86CF-4A05B3280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80E1-0B1D-4810-A4C3-FE8FAF157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FF209-813F-4AA5-97D2-3FBA40433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3D6F0-EF2D-4DBD-825D-AF52CA469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AE5B7-B1E7-4028-B4CB-63F551E19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04930-2E9E-4A03-A1BB-5ED637D34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117B9-21A3-447C-9F5F-0AAF6A630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307A4-604A-4FBB-9682-326B8DA53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0692F-81D2-4411-B304-95A18947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B5D5-B858-415E-AFB9-E57A1A1C8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19C25-0CEB-4E7B-B651-9C1D5678F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07475-E0AB-4ED2-B188-635C3504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D5924-8875-4AB9-A13F-177A66073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473E8-25B1-4670-B297-AD17462A7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2AC4F-91C5-4475-A4E7-6E562DB18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3BDE4-B643-4302-94DA-74FA523D7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4E29A-A69B-4747-9ABC-AB3E2C32A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1754D-457E-4A10-83CE-05445C046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AAF80-8EB1-4E3E-920B-E5FF0E981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13734-191F-48F1-8C34-C70BC3BE4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6F1B-7625-4F80-942E-7C3925E82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255BE-02E3-4E4C-BBF5-F2FFF4B55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70C59-EF4B-4FC6-BB88-955F723D1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B4250-9B56-4E16-B3BC-F8963E06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7B92E-A4F8-4285-8DBD-F2E83B95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EC0A1-3DE0-4521-8728-E00F76896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0A07B-EA4F-4E16-A8DF-FFDAE866B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F7ACE-EFC1-43A8-937F-9592C15F5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0AC10-BCAA-4ABA-BED7-701582534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FC936-79DC-4AF7-9DF6-505C15AAB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38702-BA6F-4072-8022-3D738CC7B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62B9-15FA-4FD7-B86A-285F5AABE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8CEE4-28E1-4550-B620-379483D66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8F7D0-F3F9-441D-9D06-31CA01143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0E93A-3DA2-45F0-8E9B-3E8598C84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8C167-3CF2-45F7-9F0E-1E874000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AEC94-6429-40E3-8009-70BC5DDEE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BB019-86F3-470A-BB2F-2A897951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1D8F3-2E86-4358-9C11-83CDC0444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AB3E4-FC80-4E25-AC50-8EA732681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94B73-2E9E-4665-B3A7-D75B62325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D671-4977-4A15-9254-34D555024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79E4-F2B1-4453-88EE-D4BE01D85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253C-3B44-4B0E-820F-8D7DBC856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6C7B-C68F-493F-BEF7-7EBD3DE10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F5F6-8A57-47C7-A6C9-4CE2AC3C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16063-981A-43D9-94FE-7DA98F1D61AC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4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5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8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0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68DB6-9207-41B4-A588-52238BF7C117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5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6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8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9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1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5C8E3-9F72-4CA0-943D-39F97EA79549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8 Tek Köşesi Kesik ve Yuvarlatılmış Dikdörtgen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11 Dik Üçgen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9 Serbest Form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10 Serbest Form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FE944-E823-44D8-92B4-F2859F37534C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1412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d)Tablo Oluşturma </a:t>
            </a:r>
            <a:br>
              <a:rPr sz="49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7928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TABL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Bu komut kullanılmadan önce tablonun oluşturulacağı veritabanı seçilmelid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Table &lt;tablo adı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_adı veri_türü [varsayılan][kısıtlama]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[tablo kısıtlaması]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Adı”tabloya verilecek isim(örnek:ogrenc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 Adı” tabloda yer alacak alanların adı(örnek:ogr_no,adi,soyad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eri Türü”girilecek veri türü (sayı,metin,tarih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arsayılan”değer girilmezse başlangıçta atanacak değ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24000" y="981000"/>
            <a:ext cx="822960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ısıtlama”boş olmaması,sadece E veya K girilmesi kısıtlama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 kısıtlaması”her kaydın belirli alanlara göre kısıtlanması(kayıtların tek olmasını sağlama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ezun olan öğrenciler için mezun bilgilerinin tutulacağı bir tablo oluşturalı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Bu tablo için adi,soyadi ve ogrno alan adları kullanılacakt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REATE TABLE ;kayit 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y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ogrno smallint(5)unsigned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straint ogrno_pk primary key(ogrno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e)Tablo Silme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240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ifadesiyle istenilen tablo siline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tablo_ad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:Müşteri tablosunu silmek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muster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5400" spc="-1" strike="noStrike">
                <a:solidFill>
                  <a:srgbClr val="7030a0"/>
                </a:solidFill>
                <a:latin typeface="Calibri"/>
              </a:rPr>
              <a:t>f)Tabloya Kayıt Ekleme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a yeni kayıt eklemek için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INSERT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TABLO (alan1,alan2,…….,alan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(deger1,deger2,………..,deger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mutla okul veritabanında bulunan öğrenci tablosuna yeni kayıt eklenmiş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ogrenci(no,ad,soyad,vel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 (125,”Melda”,”Selda”,”Eda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539640" y="764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g)Tablodan Kayıt Al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da istenilen şartlara uyan bilgileri 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ELECT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SELECT komutunun kullanımının birçok farklı seçeneği vard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d belirli bir şarta bağlı olmaksızın istenilen verileri ogrenci tablosundan oku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-&gt;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tablosundaki tüm kayıtları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-&gt;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 tablosundaki verilerin sadece ad ve no bilgilerini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250920" y="980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elirli bir şarta uyan verilerin okunması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WHER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paremetresi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Numarası 15 olan öğrencilerin  tüm bilgilerinin görüntülenmesi için aşağıdaki ifade yazı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*F ROM ogrenci WHERE no=15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ınav notundan 50-70 arası not ala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not_1 BETWEEN 50-7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nın içinde ‘M’geçe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ad LIKE ‘%M%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61128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le gelen kayıtların sıralamasını değiştir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ile birlikte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rsa artan sıralama,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lırsa azalan sıralama yapar.Herhangi bir ifade yazılmazsa artan sıralama yap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”M” ile Başlayan öğrencilerin bilgilerini soyadına göre artan sıralamada görüntülenmesi için aşağıdaki ifade yazılır.(a…..z sıralam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 WHERE adi=‘M%’ ORDER BY soya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h)Kayıt Sil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79280" y="1844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dan kayıt sil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LET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FROM tablo_adi WHERE koş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SQL komutu ogrenci tablosunda bolum bilgisi”bilişim”olan tüm kayıtları sil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*FROM ogrenci WHERE bolum=‘bilişim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i)Kayıt Güncelle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24000" y="1699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da bulunan kayıtlar üzerinde değişiklik yapmak istendiğinde UPDATE ifadesi kullanılır.Çoğunlukla where ifadesi ile kullanılır.Where ifadesi kullanılmaz ise tablodaki tüm kayıtlar güncellen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tablo_adi SET alan1=değer1,alan2=değer2,……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WHERE Koşul cümlesi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Öğrenci numarası 35 olan öğrencinin doğum tarihini 05/02/1991 olarak değiştirecek SQL komutu aşağıdaki gib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ogrenci SET dogum_tarihi=‘1991/05/02’ WHERE no=3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Fonksiyon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79280" y="1341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) Standart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VG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aritmetik ortalama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SUM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toplamını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IN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küç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AX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büy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OUN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kayıt sayı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ROUN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değerinin virgülden sonraki kısmını yuvar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00000"/>
                </a:solidFill>
                <a:latin typeface="Calibri"/>
              </a:rPr>
              <a:t>MYSQL Veritabanı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Veritabanı,içerisinde çeşitli verileri bulunduran birbirleriyle ilişkili tablolardan oluşmaktadır. MySQL veritabanı da SQL ve Access gibi farklı tablolardan ve bu tablo içerisindeki alanlardan meydana ge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MySQL veritabanında sayısal bilgiler INT,string bilgiler VARCHAR türünde tanım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250920" y="76464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b)Karşılaştırma Operatörleri ve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tir “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1 =0; SONUÇ=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‘0’ =0; 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 Değildir”&lt;&gt;” ,”!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’.O1’&lt;&gt; ‘0.01’;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üçüktür veya Küçük eşittir “&lt;“ , “&l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lt;2; SONUÇ=1 </a:t>
            </a:r>
            <a:r>
              <a:rPr b="0" lang="tr-TR" sz="1800" spc="-1" strike="noStrike">
                <a:solidFill>
                  <a:srgbClr val="ff0000"/>
                </a:solidFill>
                <a:latin typeface="Calibri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Büyüktür  veya büyük eşittir “&gt;” , “&g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gt;=2;SONUÇ 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GREATEST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en büy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GREATEST (2,0) ;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LEAST 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 en küç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LEAST  (2,0) ;               sonuç =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24000" y="1125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)Matematiksel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BS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mutla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BS(2);         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O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iki değerin bölümünden kalanını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MOD(234,10);     Sonuç=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QR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karekökünü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QRT (4) ;              Sonuç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521560" cy="190836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030a0"/>
                </a:solidFill>
                <a:latin typeface="Calibri"/>
              </a:rPr>
              <a:t>MySQL Sunucusuna Bağlantı </a:t>
            </a:r>
            <a:br>
              <a:rPr sz="20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 dilinde veritabanı ile işlem yapılacağı zaman ilk olarak web sunucusu aracılığıyla veritabanı dosyası ile bağlantı kuru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bir değişkene atanır ve MySQL sunucu kurulumunda şifre konulmamışsa şifre parametresi boş bırakılmalı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mysql_connect(sunucu,kullanıcı_Adi,sifre;yeni_baglant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”bağlantı kurulacak MySQL sunucusunun ism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localhost sunucusunda root kullanıcı adı ve root şifresiyle bağlantı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connect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localhost” ,”root” ,”root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Yerel sunucuda sunucu localhost ismini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Veritabanı Seçim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24000" y="1557360"/>
            <a:ext cx="82296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ile bağlantı kurulduktan sonra kullanılacak veritabanının seçilmesi gerekir.Veritabanı seçim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select_db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 başarı ile çalışırsa TRUE, çalışmazsa FALSE değeri döndür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select_db(“veritabanı”,”bağlantı_değişkeni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veritabanı”)=Bağlantı kurulacak veritabanı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”bağlantı_değişkeni”)= mysql_connect fonksiyonunun atandığı bağlantı değişken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PHP ile MySQL Veritabanı  Oluşturma 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84464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stemci yazılımı veya mysqladmin kullanmadan MySQL veritabanı oluşturmak için mysql_create_db() fonksiyonu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sunucu üzerinde personel isminde bir veritabanı oluşturmak için aşağıdaki ifade kullanıla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&lt;?PH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$bg=@mysql_connect(“localhost”,”root”,”mysql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MySQL e Bağlanılamıyor!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(“CREATE DATABASE personel”,$b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Veritabanı oluşturulamadı”.mysql_error(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SQL İfadelerinin Kullanımı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2400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kurulan veritabanı üzerine SQL ifadelerini kullan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nuc=mysql_query(“sql_ifadesi”,”bağlantı_değişkeni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ql_ifadesi=Çalıştırılmak istenen SQL ifades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_değişkeni=mysql_connect fonksiyonunun atandığı bağlantı değişkenidi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Sunucu İşlem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95280" y="148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üzerinde çalıştırılan UPDATE,INSERT ve DELETE işlemleri geriye değer döndürmez.Sadece SELECT  ifadelerinde geriye sonuç döner.Bu sonuçlar üzerinde işlem yapmak için aşağıdaki fonksiyonlar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a) mysql_num_field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u komut SQL ifadesinde seçilen alanların sayısını bul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b) mysql_num_rows 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orgusunun çalışması sonucu elde edilen kayıt sayısını bulmak için kullanılır.INSERT,UPDATE veya DELETE gibi tablo üzerinde değişiklik yapan SQL ifadeleri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affected_rows()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c)mysql_fetch_row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fadesi sonucu dönen kayıtları almak için kullanılır.Sorgudan dönen alanlar mysql_fetch_row()fonksiyonun atandığı değişkene dizi şeklinde atanacaktır.Daha fazla döndürecek kayıt kalmadığında “false” değeri dö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528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result(“sorgu_değişkeni”,kayit”,”alan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rgu sonucu dönen değerlerden istenilen kaydın alan bilgisi alınabili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ayıt” parametresi sayısal bir değerdir.”alan” parametresi sayısal olabileceği gibi alan ismide olabilir.Örneğin,sorgudan dönen değerlerden 5.satırdaki kaydın ad bilgisi için mysql_result($sorgu,5,”ad”)veya mysql_result($sorgu,5,5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error() ve mysql_errno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fadelerinin çalışması esnasında oluşan hata mesajlarını yazılı olarak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or()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hata kodunu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no 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ları kullanılır.Parametre olarak bağlantı değişkeninin adını a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Sunucu Bağlantısını Kapatma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a bağlantı sayısı sınırlı olabileceği için veritabanıyla ilgili işlemler bittiğinde bağlantının kapatılması gerekir .Aksi Takdirde diğer kullanıcılar bağlanmak istediğinde sorun oluşabilir.Bağşantı kapatmak için mysql_close fonksiyonu kullanılı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baglanti_degisken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 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ullanım $baglanti değişkenine atanan  MySQL bağlantısını kapatmakta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$connec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4617b"/>
                </a:solidFill>
                <a:latin typeface="Calibri"/>
              </a:rPr>
              <a:t>MySQL Kurulumu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kurulumunun en son versiyonu www.mysql.com  adresinden indirelebilir.Kurulum dosyasını çalıştırdıktan sonra ilk ekranda”Next”butonuna tıklayarak devam edilir.Kurulum tipi belirlenip “Install “butonuna basılır.Next butonlarıyla ilerlenip kurulum tamamlanı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sunucunun veritabanına  erişimi için yapılandırılması gerekir. Standart ve detaylı olmak üzere iki şekilde yapılır. Yapılandırma işlemleri “Execute”butonuna basılarak aktif hale getiril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Finish”butonuna basılarak aktif hale getirili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PHPMyAdmin Kurulumu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MyAdmin,MySQL veri tabanına kolayca erişimi sağlayarak veri tabanı işlemlerinin görsel yolla yapılabilmesi hazırlanmış arayüzd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uruluma gerek yoktur.Sıkıştırılmış klasör içinde bulunan dosyaları açarak web sunucusu klasörüne(apache web sunucusu için htdocs klasörü)kaydetmek yeterl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89ca3"/>
                </a:solidFill>
                <a:latin typeface="Calibri"/>
              </a:rPr>
              <a:t>KURULUM AŞAMALARI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Gerekli dosyalar www.phpmyadmin.net adresinden indirileb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İndirilen dosya açılarak htdocs klasörü altına kopya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yapılandırılması için aşağıdaki adımlar uygulanı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klasörü içinde bulunan config.inc dosyasını açılarak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;satırı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http ://localhost/phpmyadmin/’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olarak değiştir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i][User’]=‘root’;satırında kullanıcı adının root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][‘password’]=“;root kullanıcı adı ile bağlantı yapılıyorsa şifre kısmının boş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fig.inc dosyası kayded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İnternet tarayıcının adres çubuğuna http://localhost/phpmyadmin/ yazdığınızda hata ile karşılaşılmıyorsa phpMyAdmin yazılımı başarıyla kurulmuş dem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MySQL Yazılım Kural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50920" y="1988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a) Veritabanı Oluştur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komutu veril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adında bir veritabanı oluşturulmuştu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ogrenc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6836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b) Veritabanı Sil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silme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DROP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Komut çalıştırıldığında silinen veritabanın içerisindeki tüm tablolar ve kayıtlarda silinmiş olacaktır.Silinen kayıtlar geri getirilemez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veritabanı silinecekt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okul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c)MySQL Veri Tür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68360" y="1413000"/>
          <a:ext cx="8229600" cy="5121000"/>
        </p:xfrm>
        <a:graphic>
          <a:graphicData uri="http://schemas.openxmlformats.org/drawingml/2006/table">
            <a:tbl>
              <a:tblPr/>
              <a:tblGrid>
                <a:gridCol w="1871640"/>
                <a:gridCol w="635796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ri Tür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çıklam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NY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8 ile 127 arasında tamsayı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2768 ile 32768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U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388608 ile 838860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147483648 ile -214748364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G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223372036854775808-9223372036854775807 arasınd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OA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rgülden sonra 4 yada 8 haneli ondalık 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STAMP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andaki sistem zamanını tut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:MM:SS,HHMMSS,HHMM,HH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E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YYY-MM-DD HH:MM:SS 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 sayısını geçmemek şartıyla değişen boyutta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sinlikle n sayısı kadar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16:07:00Z</dcterms:created>
  <dc:creator>pc</dc:creator>
  <dc:description/>
  <dc:language>en-US</dc:language>
  <cp:lastModifiedBy>Vento</cp:lastModifiedBy>
  <dcterms:modified xsi:type="dcterms:W3CDTF">2013-11-26T12:38:50Z</dcterms:modified>
  <cp:revision>33</cp:revision>
  <dc:subject/>
  <dc:title>PHP ve MYSQL</dc:title>
</cp:coreProperties>
</file>